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0"/>
            <a:ext cx="6792840" cy="993312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33120"/>
              <a:gd name="textAreaBottom" fmla="*/ 9932760 h 9933120"/>
            </a:gdLst>
            <a:ahLst/>
            <a:rect l="textAreaLeft" t="textAreaTop" r="textAreaRight" b="textAreaBottom"/>
            <a:pathLst>
              <a:path w="21600" h="31585">
                <a:moveTo>
                  <a:pt x="5" y="0"/>
                </a:moveTo>
                <a:arcTo wR="5" hR="5" stAng="16200000" swAng="-5400000"/>
                <a:lnTo>
                  <a:pt x="0" y="31580"/>
                </a:lnTo>
                <a:arcTo wR="5" hR="5" stAng="10800000" swAng="-5400000"/>
                <a:lnTo>
                  <a:pt x="21595" y="315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0"/>
            <a:ext cx="6792840" cy="993312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33120"/>
              <a:gd name="textAreaBottom" fmla="*/ 9932760 h 9933120"/>
            </a:gdLst>
            <a:ahLst/>
            <a:rect l="textAreaLeft" t="textAreaTop" r="textAreaRight" b="textAreaBottom"/>
            <a:pathLst>
              <a:path w="21600" h="31585">
                <a:moveTo>
                  <a:pt x="5" y="0"/>
                </a:moveTo>
                <a:arcTo wR="5" hR="5" stAng="16200000" swAng="-5400000"/>
                <a:lnTo>
                  <a:pt x="0" y="31580"/>
                </a:lnTo>
                <a:arcTo wR="5" hR="5" stAng="10800000" swAng="-5400000"/>
                <a:lnTo>
                  <a:pt x="21595" y="315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26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06120" y="4718160"/>
            <a:ext cx="4978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sldNum" idx="32"/>
          </p:nvPr>
        </p:nvSpPr>
        <p:spPr>
          <a:xfrm>
            <a:off x="3849480" y="94341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A9385-E9A7-49B7-AE19-7F2CE24A75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274A4-1515-44E9-93AF-1573B6641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73560-FE80-42CD-A6A5-FF0411A181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189EB-5952-48E3-BA3A-B937414E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A90BC0-883B-4C52-A578-810A8228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A02C90-15F7-43C4-9E97-82553463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317EB8-2A2D-4DA3-96D9-0F92A479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3CF4BA-DA76-474A-A330-13222956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018EEC-FCB1-489C-A429-33706385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1FA788-7993-49CF-BD19-749CA540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D6CE27-2B54-4546-9026-C58FAA23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06376-26FC-4856-8FEB-14FE8DCD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8F8A7-D44D-429F-A175-2891023072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94DC08-0C83-4F6B-851E-BAAFCFAC73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ACD3B-5AC9-473C-B87E-F1EED8C3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C1EB75-C2E2-4120-B7E6-2ABC9C63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C1ED0B-C1A4-4F21-B444-2C25C3DF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CF4A98-134B-4C49-ADF7-38F7FD80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CC2FBE-5132-4584-B9A1-705A0ED4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D5B340-1357-4CB9-B43F-360E8FF9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63EE9E-B281-4C12-87A4-2F5AB5D2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1E83A7-1D3A-4326-BCDE-08DCE670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4F0CD9-4382-499E-9ED8-FE63B998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28563C-6B09-409B-8555-FC02920E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5CA0CC-A733-4665-9E80-973D5008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0FB3-E0C5-410F-89C8-E118005B57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759684-E605-45B6-9DAA-35B40CC06E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5DEC6-33DB-48A7-968A-74241423FF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19B0A-CA72-4069-851E-B0646AB4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B5DAF-E16D-47EF-A700-36BF0E5D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2E48D-EB4B-4256-BFC2-F0B0CDE5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2E1BE-A614-4F25-9FC9-98769BD9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7D2A6-D4E0-4696-AB49-8B35DDD4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C2A7F-24B2-43FC-8A4E-626681EC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219C1-FCA4-4E08-ABA5-EB36AE48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A9E0A-91AC-4C2B-9188-5C0B48AE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E888C-D285-4D65-841C-BBBC1AF954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58FCB-A49F-4CAE-AB88-216CA85E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4C666-5D72-4070-BE81-25306A2D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67F24-7265-4679-9519-DF5E22D0C0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BCA53B-3844-4A2F-93EE-77AC9C4EFF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8B972E-8B43-4653-A159-1CA4B18C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2DED2B-D20E-43D8-9CC4-3A1FB42A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7D4E51-B614-4552-830F-339518F6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BAF62B-6490-45BB-A322-294DFA4E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2A20B2-8F83-4D72-9E50-AA470CA7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F7026C-5DA0-4BF5-8E1D-B375E775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F95CC-B758-4CC0-8E81-398700D5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D74FB7-8AE2-44DF-A475-3B774F82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212289-CBBE-46FD-B55E-FF97EDBE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FC89CC-CA90-40DE-97CC-5648D8F8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CDAE56-5D90-413B-8F4A-AF518167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03261F-EA7A-4274-80A0-9A5B427C97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7B729-A638-4AAE-BC29-2BF7B453A2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CC5635-0234-4BD9-BB9F-DF27CDCA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6A59E7-59A7-421E-B731-6C0C2C79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20F0E-A69F-4A55-A2B5-0B6C3D3A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396A2-7D8F-4CF3-B3AD-F141E154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EB7D4-C19D-463C-93AB-FD00A283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621604-7B15-4F68-AAA8-5A9B03A8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A610C-E89C-4A6B-B9F9-A60A7773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5DC551-646C-4BF0-B499-2CC38835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DAE69-DF33-4928-B2B4-D9D018D7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1A82A-09A2-4A09-9885-9A73EC61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B01747-5EA6-491B-BEFF-9B563163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A8A15-2470-4A4F-A6BC-F2B9417F91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3E624-D833-4601-BF77-263F2B0B1C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11068-C8D3-4EA2-B10F-3881796D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98E83-A28E-4A17-AEB8-D1B5E9A1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B75CA-454E-4E0C-900A-16F1C65E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618CC-6E4A-4B3B-A17F-8D3D81D9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DDC48-02DA-4C4B-9618-C37E06A6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83F61-B833-46D8-A3C5-D26365ED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49779-A818-46F1-8430-BCA7B177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93D18-BAAA-4A56-8442-877ED22A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EAFE8-52B5-4A7B-B645-20A13AC9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6CBDC-DC32-4A6A-B8F3-F288038D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7CE37-BF2D-4109-B5D6-A5B7200C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222E9-2A1E-4316-9FBB-D4AD061B12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B249F2-34E6-4C7C-A310-AFAAC44349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E612D-630D-4BC4-BD5D-515CB06D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BFFED8-1D3F-4D6E-8305-A174350C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D84FF6-0A81-4409-80F2-18BF3AA0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88A1FB-2574-4F43-A607-B01A6F9D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55A6EA-D444-4F55-8BBE-411334FB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9FA4D2-958E-4A8E-A0D5-DE5D1BBD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AC3072-ED59-44AD-A656-28C27615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DD1FF2-89EF-4518-B3D0-2124A1DC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293D52-2080-450A-8B32-54269420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7CC069-0409-4F75-9E5C-FC6A5B58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FA8331-61C8-437F-AC61-FCCECDA1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4929D-C872-40D6-8467-2D68DC0B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4C1268-FC76-404D-8CFD-7C38A77883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492F89-E8FA-4858-904C-1D9C8E83C3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8D85DC-7870-4E60-9C97-F039486D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EBC292-2857-415F-8240-7A2066A1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ADA436-B60E-4836-92B3-8E41642D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794574-D828-4765-BEBE-5400B107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12ECE4-7D26-49CA-99E1-A821D706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A77D86-1B29-4C30-9378-84CE46C4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D9377F-193B-42A8-90CE-BC0438C0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00A5E7-F87C-4FF3-B093-4F46956C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29CFB-FA89-4527-96AC-B89BD48F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1A31E8-0FF4-4B83-8B30-F41657EA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AA30CD-404E-4F84-87D0-CFD5626B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622384-CD7E-4776-93DB-D2CCF2C98A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DBBFA-5C80-4B5E-8750-620C42ED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B7CD7-1D9C-4FA0-ADFD-2E6D56BC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93B69-8A89-48E8-80EE-5DCFAEFD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760ED-15F2-44AB-AF0A-2C5788DC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06B4A-9F17-441C-B9A0-0C8F5C6B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B03DB-87B4-47AC-A884-4E499FECA5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63649-1B3E-49A2-BF8A-96104AF49E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E6D39-34AA-4214-AD07-624BFC96F4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BDD1F-10E6-4286-ACF9-0FCA2740A3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790FA-B9B7-4FCB-BAD2-0C48B74F30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8E4F9-2BAC-416C-A765-A2E875C404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5CC7B-688A-48EB-A2B1-9FB784C0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3E791-0440-4F90-AFDD-8B0A5532E0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5A18C-9E66-4453-B858-362BFAEF9D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B918B-F9EC-404A-A896-DC52647C0C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A48D0-6343-4CF3-8F76-91A1ED468A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428EE-BFC5-4D4E-BF18-3B90B650FB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3DDB4-1397-47AB-A7E9-A0E37B35F6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AE764-1973-4067-9887-CD3A0DABA9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6E8D14-D513-4447-BC51-CC82B4A1B8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4D2196-247C-48DF-B2D5-D6A47AB9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EC7237-E9AB-4AD8-8154-FBADB9BE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D9F22-ECA3-4DEA-9096-3361BEAF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083F32-5F37-4E75-A76E-4FCE56D1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48D607-8120-462D-BDE1-FB958A3E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827C0E-CB0D-40D7-88C9-E630B5CF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FA3200-A808-4190-9A3C-C4F08E28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0BAAFC-AAA8-4E10-8FA3-82B08E50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DBEB78-BF47-4F75-AA42-BE793F38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0E8C6F-D37C-4A92-84EC-64ED0B6F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8835AB-9ED0-48DB-A8A6-94495003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D1CCFF-BEE3-4B8B-BC87-93047A684D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2F0E9-A795-4A79-96AC-234A14CB6E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4EB53-4A81-46C3-AEE8-0D56782B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1A41A-6087-4714-B451-CA72E7AC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B928E-6261-402B-84D9-B664716E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1EFF9-C058-4705-9002-77329F08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AE572-82D3-4B37-B19D-8C5CBA10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3A868-AE12-4213-AA95-A98FA767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F8E5B-9295-4952-99E2-D7EFCD22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DF01A-6BA0-4B38-9D8E-3F089D36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9FA09-44A9-412C-8E6F-8A34F3E6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F5231-CA39-4227-8200-F931354D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0CD46-674E-4AE2-9E8F-32CD7A33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4DAE1-666D-47C4-B100-BF70B34F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E6EF8-4345-40EB-8E52-9E4686AC09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15E347-EC4F-4C2A-8F8B-8486F11DB4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3124D2-6040-4FB2-AD24-EFD2FC67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A5AB60-0F59-48C1-85B7-47178B81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EFCF51-C338-49D6-B09B-A24E8DDD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89FBBE-48E9-448B-86DC-FD1646C2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A0E894-84F4-4779-83BB-FD725925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FE2000-5984-4810-999B-4D25D310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8A5C00-C771-4E25-87F0-CE57E9CF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59F84A-2244-45EC-91BF-305EBE19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9B936-BB81-4726-BF81-1D894F14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D9DC1D-7D6C-48C4-9645-E6E7A49B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2B6FE8-0988-46B1-BB96-45F8AC37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2DA525-F5EC-4B04-847C-D86DB2A4CA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998D70-DE6A-49A2-B641-AA2E84108B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E527AB-57D1-48D8-AD54-F214171E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5547F2-2918-4025-9319-A85F5B2D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0E319A-72AC-4DE4-ACA3-F6AA5A7B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BCD357-6441-441D-8BA2-6F2CD47F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C6876D-C55B-4DBC-A2DD-23CFE340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EE5EFB-10C8-4DC6-B2BB-6EED61A0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40439-11B4-4E6E-8E13-CD19902E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E9FBE2-6CB4-441F-85BC-7E21293C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D3EFB7-B982-4B3A-B1CB-8F008D03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E0484D-34B1-4E43-A25E-3797F27C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ED9CE8-51B4-4935-9183-3C610E1C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CC31D4-BF75-4728-9CBE-FFA2EC915F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67724-ED28-4887-89AE-0FD2A5B5E5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77DB1-5C0B-4183-9D7D-980FFEB6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1FC2C-96FB-4FF4-8D3B-955288D1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E7519-6D88-43F8-A99E-6473B98A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08B7D-7730-423B-B6AD-2ADA46C4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7A82B-9C24-4AF1-8245-9530238B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731E1-6F7D-4E32-8DF6-899F62FA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DC62F-B36C-4C0A-853C-02EEA901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3B9A3-426D-447F-BD2D-603CDB26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C9B79-0075-4DD9-B9C7-AA58ED41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CFBC8-B8AC-4D77-9857-E3574CC1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67DC9-7751-40EA-A9F2-2D486E17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08788-6908-4EFF-AE35-D12FE51469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837C68-EB3E-4892-9139-27500030DC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80C5F0-BC6D-42CE-B859-AF25EBC6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E53081-98B5-48EB-8CCE-F0D0FEA9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lv-LV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20.04.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9 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A5799-5CEC-4772-B02D-546F899AD40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8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19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12D0C09-3D5C-4973-A640-F496E56FA515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0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1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633AAE3-C110-4827-BDAB-25212FDD7BB4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sldNum" idx="23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B11452-7DF7-4826-A368-CD51563D8803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24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25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3AE725A-0EA1-4A3C-A087-2816728188E4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26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sldNum" idx="27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B439612-3644-40C9-9E4F-953862BDF545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9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C7981E5-81AE-4B9C-B923-FE51A63550E9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0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sldNum" idx="31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BA2BD5D-24CE-4A1A-9623-662C89D8919C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676440" cy="644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0.04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6D3ED1F-9BBF-4DE3-AFB6-F4C905CF2A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5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FE45A31-6FA6-4D44-A506-EA2E521E84C1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7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8E941BC-C077-4B8B-BA69-ED01956566DE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8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9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0AFD6D6-EA03-497E-ACDC-FFD4D663883D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1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9BECF53-4449-44C3-88EB-CF151CCA16D0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3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97345C-9F5B-4BCC-BB3B-470B3ACD772D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4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5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347F64A-4E2E-40E9-BDAA-5E7C44F45203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17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AFBE18A-A4A1-4887-A0C0-9949D08202D4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0" y="620640"/>
            <a:ext cx="9144000" cy="4105440"/>
            <a:chOff x="0" y="620640"/>
            <a:chExt cx="9144000" cy="4105440"/>
          </a:xfrm>
        </p:grpSpPr>
        <p:pic>
          <p:nvPicPr>
            <p:cNvPr id="711" name="" descr=""/>
            <p:cNvPicPr/>
            <p:nvPr/>
          </p:nvPicPr>
          <p:blipFill>
            <a:blip r:embed="rId1"/>
            <a:stretch/>
          </p:blipFill>
          <p:spPr>
            <a:xfrm>
              <a:off x="0" y="692280"/>
              <a:ext cx="914400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0" y="620640"/>
              <a:ext cx="914400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0" y="4724280"/>
              <a:ext cx="914400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403280" y="1484280"/>
            <a:ext cx="66978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Arial"/>
              </a:rPr>
              <a:t>Access to Treatment and Care in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ithu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Arial"/>
              </a:rPr>
              <a:t>Draft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50920" y="11592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189000"/>
            <a:ext cx="125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547640" y="481968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World Health Organization  </a:t>
            </a:r>
            <a:br>
              <a:rPr sz="2000"/>
            </a:b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Regional Office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Copenh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1033200" cy="13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7E9AC-979B-4AD3-B98D-E8EB4AF79210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4F919-358D-4DB6-8799-29919927F7E1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Role of N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" y="1238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Recognise essential and vital role of NGOs to reach and advocate for key populations, e.g. 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eed predictable state funding for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eed for reliable and sustainable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Recognise role of NGOs to build trust, provide entry into health system and to ensure continued engagement wit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44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7FDC3-7341-4845-9337-015B0F623D16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pidemic in Lithu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83380-60AD-47F0-862E-400E8EF68046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539640" y="1311120"/>
            <a:ext cx="8147160" cy="47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15205-340E-41B0-B79D-7FBEFE95DF7A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B232F-2601-41D4-BC75-D1C16F2C1B65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 the epidemic contro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Ongoing transmission among 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Majority of HIV diagnoses made in p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Documented HIV transmission in p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ontinuity of prevention services in prison not guarant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Opportunities to test IDU mi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DU avoid health services because of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01E91-F2B6-4C37-A548-39FE703C9759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31439-DA1E-4D3D-A352-9CC48544DE8C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ructures and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larify roles and responsibilities of different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OH to take technical supervisory role; needs enhanced capacity and budge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eed for strategic a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eater coordination of all players, e.g. MOH, MOJ,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Opportunities to make efficiency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tegration of financial flows, e.g. procurement of ARVs by NHIF and MOJ; procurement of laboratory tests through NH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EDA91-72CA-4AF3-A85D-8AAD3FDA2816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65D70-AE3A-479E-A335-ABEBB9977ED5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ccess to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1238400"/>
            <a:ext cx="8229600" cy="55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400" spc="-1" strike="noStrike">
                <a:solidFill>
                  <a:srgbClr val="cc3300"/>
                </a:solidFill>
                <a:latin typeface="Arial"/>
              </a:rPr>
              <a:t>Scale up access to ART to all who nee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Apply a team approach, e.g. link to NGOs for adherenc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Coordinate treatment sites with each other and with other services, e.g. i</a:t>
            </a:r>
            <a:r>
              <a:rPr b="0" lang="lv-LV" sz="24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ntegrate HIV, methadone maintenance therapy, T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Address barriers to treatment, e.g. ID card, service hours, need for referral, addiction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Ensure treatment continuity between prisons and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262AC-2A5D-4954-99D4-B0028D8C1C60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E28E3-94A8-4E38-9875-24A03C62AE11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RT: Standards and Guid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" y="1165320"/>
            <a:ext cx="8229600" cy="47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Update guidelines in line with most recent international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eed clear first and second line regimens including clear strategies for switching regim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Link guidelines, ART regimens and procurement of AR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400" spc="-1" strike="noStrike">
                <a:solidFill>
                  <a:srgbClr val="cc3300"/>
                </a:solidFill>
                <a:latin typeface="Arial"/>
              </a:rPr>
              <a:t>Establish electronic system for patient monitoring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 and early warning for H</a:t>
            </a:r>
            <a:r>
              <a:rPr b="0" lang="lv-LV" sz="2400" spc="-1" strike="noStrike">
                <a:solidFill>
                  <a:srgbClr val="cc3300"/>
                </a:solidFill>
                <a:latin typeface="Arial"/>
              </a:rPr>
              <a:t>IV drug resistance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79D14-E9B9-48B9-87D0-7BE61A9ED1BD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77B42-FDF1-4C14-87A1-5788B4B38013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RV Proc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57200" y="1238400"/>
            <a:ext cx="82296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Move to one national medicines reimbursement list and one medicines selection process by merging the processes for out-patient reimbursement, centralized purchasing and hospital medicines procur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ontinue discussions with the EU Commission in follow-up of the Bremen declaration on the approaches to increase coverage of treatment for HIV/AIDS patients in the new EU member states by increasing EU financing and reducing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eed to explore possibilities for price reductions (see EU pharmaceutical legislation articles 5,6, and 1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44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7D839-1651-4398-AA81-96BDC9702542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278B4-6742-4485-B56B-656206B600C5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ervices for ID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57200" y="1238400"/>
            <a:ext cx="822960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mprove IDU access to HIV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mprove coverage of N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mprove coverage of 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ervice providers need to accept responsibility for non-uptake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nsure access to and continuity of treatment, care and support for 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epare for expected increase in number of IDU needing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44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74D4A-5D65-438B-BCD8-54CE7B889423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A86D1-BD13-4082-AD49-7FAAD71FD924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IV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57200" y="123840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eed for strategic governmental policy on HIV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Government should ensure procurement of tests and that they are provided for free to IDU, MSM and sex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Address legal obstacles for testing in LTCs, e.g. only doctors can tak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xplore possibilities for efficiency savings on unnecessary tests, e.g. by detecting same number of HIV positive pregnant women with fewer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44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6:43:28Z</dcterms:created>
  <dc:creator>ULJ</dc:creator>
  <dc:description/>
  <dc:language>en-US</dc:language>
  <cp:lastModifiedBy>XP</cp:lastModifiedBy>
  <dcterms:modified xsi:type="dcterms:W3CDTF">2010-03-26T14:49:11Z</dcterms:modified>
  <cp:revision>613</cp:revision>
  <dc:subject/>
  <dc:title>PowerPoint Presentation</dc:title>
</cp:coreProperties>
</file>