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6C79-6544-403A-9167-BC4F0CDC3CC6}"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61D1-214C-4B9B-9468-A9875D2B6CD1}"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ps</a:t>
            </a:r>
            <a:r>
              <a:rPr b="1" lang="lv-LV" sz="3200" spc="-1" strike="noStrike">
                <a:solidFill>
                  <a:srgbClr val="c6168d"/>
                </a:solidFill>
                <a:latin typeface="Arial Narrow"/>
              </a:rPr>
              <a:t>ihiatriem</a:t>
            </a:r>
            <a:r>
              <a:rPr b="1" lang="en-GB" sz="3200" spc="-1" strike="noStrike">
                <a:solidFill>
                  <a:srgbClr val="c6168d"/>
                </a:solidFill>
                <a:latin typeface="Arial Narrow"/>
              </a:rPr>
              <a:t>:</a:t>
            </a:r>
            <a:r>
              <a:rPr b="0" lang="en-GB" sz="3200" spc="-1" strike="noStrike">
                <a:solidFill>
                  <a:srgbClr val="c6168d"/>
                </a:solidFill>
                <a:latin typeface="Arial Narrow"/>
              </a:rPr>
              <a:t> 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fontScale="93000"/>
          </a:bodyPr>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ka jūsu pacients regulāri konsultējas ar infektologu. Ar jūsu pacienta atļauju, jūs varat informēt infektologu par konkrētā pacienta garīgajām problēmām. </a:t>
            </a: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ūs varat uzzināt vairāk par pacienta psihisko stāvokli, kas ir ļoti svarīgi.Jūs varat apspriest ārstēšanu un iespējamās mijiedarbības Ir svarīgi vienam otru apzināties, pamanīt, ja ir kādas noslieces uz pašnāvību vai nelīdzestība, jūs kopā to visu varat izrunāt un risināt problēmu..</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Lai viens otru labāk iepazītu, jūs varat apmeklēt infektoloģijas klīniku, lai noskaidrotu saistību ar HIV un garīgās attīstības traucējumiem. Tas aizņems tikai laika sprīdi un dažreiz patērēs jūsu enerģiju, lai veidotu pozitīvas attiecības ar pacientu, bet jūs būsiet tuvāk izpratnei par jūsu pacienta garīgo stāvokli.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a:t>
            </a:r>
            <a:r>
              <a:rPr b="0" lang="en-GB" sz="2400" spc="-1" strike="noStrike">
                <a:solidFill>
                  <a:srgbClr val="1b2764"/>
                </a:solidFill>
                <a:latin typeface="Lucida Sans"/>
              </a:rPr>
              <a:t>, iekšēja trauksme un pārmērīga tieksme pēc alkohola un narkotikām, šie simptomi bieži skar ar HIV inficētos pacientu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Cilvēkiem, kuri inficējušies ar HIV, ir lielāka iespēja saslimt ar garīgām slimībām, nekā pārējiem.</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Lucida Sans"/>
              </a:rPr>
              <a:t>HIV pacientu garīgās veselības problēmas/psihiatriskās diagnozes</a:t>
            </a:r>
            <a:endParaRPr b="0" lang="en-US" sz="24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bāka HIV pacientu līdzestība un slimības prognoze,  pievēršot pastiprinātu uzmanību depresijas pazīmēm un līdzestība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 :</a:t>
            </a:r>
            <a:br>
              <a:rPr sz="2000"/>
            </a:br>
            <a:br>
              <a:rPr sz="2000"/>
            </a:br>
            <a:r>
              <a:rPr b="0" lang="en-US" sz="2000" spc="-1" strike="noStrike">
                <a:solidFill>
                  <a:srgbClr val="1b2764"/>
                </a:solidFill>
                <a:latin typeface="Lucida Sans"/>
              </a:rPr>
              <a:t> Psihiatrijas vēsture. Vai un kādas ir bijušas prishoterapijas ārstē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tē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kopš kura laika, kā pacients inficējies.  CD4 skait</a:t>
            </a:r>
            <a:r>
              <a:rPr b="0" lang="lv-LV" sz="2000" spc="-1" strike="noStrike">
                <a:solidFill>
                  <a:srgbClr val="1b2764"/>
                </a:solidFill>
                <a:latin typeface="Lucida Sans"/>
              </a:rPr>
              <a:t>s</a:t>
            </a:r>
            <a:r>
              <a:rPr b="0" lang="en-US" sz="2000" spc="-1" strike="noStrike">
                <a:solidFill>
                  <a:srgbClr val="1b2764"/>
                </a:solidFill>
                <a:latin typeface="Lucida Sans"/>
              </a:rPr>
              <a:t>, vīrusu slodze. Vai lietoti antiretrovīrusu medikamenti. Vai ir līdzestīgs ārstēšanai? Saistība ar garīgās veselības problēmām? Vai ir kādas citas medicīniskas problēmas? Vai bijusi kāda cita ārstēšana? Palūdziet atļauju kontaktēties ar infektologu, ja nepiecieša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ēsture, tās biogrāfiskie fakti. Vai pacients ir vienīgais bērns ģimenē, situācija (vide) ,mājās, skolā, darbā. Vai ir partnerattiecības, laulības. Seksuālā attīstība, vai ir netradicionāla orientāc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tigma un ta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o pacients sagaida no konkrētās terapijas/ ārstēšan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fontScale="99000"/>
          </a:bodyPr>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 izturēšanās pret pacienu, kurš inficējies ar HIV, nedrīkst atšķirties no  izturēšanās pret citiem pacientiem. Lai vai kā, HIV pacientu mūžs, diemžēl, izvēršas par dzīvi ar stipri stigmatizētu infekcijas slimību, bieži arī ar daudziem psihiskiem simptomiem. Tas ir stresa pilns. Bieži vien pacienti lieto zāles, kurām ir smagas </a:t>
            </a:r>
            <a:r>
              <a:rPr b="0" lang="lv-LV" sz="2400" spc="-1" strike="noStrike">
                <a:solidFill>
                  <a:srgbClr val="1b2764"/>
                </a:solidFill>
                <a:latin typeface="Lucida Sans"/>
              </a:rPr>
              <a:t>blakusparādības. Šeit vienmēr ir kaut kas īpašs.</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5:07Z</dcterms:modified>
  <cp:revision>372</cp:revision>
  <dc:subject/>
  <dc:title>The treatment of alcohol dependent patients with a comorbid anxiety disorder</dc:title>
</cp:coreProperties>
</file>