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168d"/>
                </a:solidFill>
                <a:latin typeface="Lucida Sans"/>
              </a:rPr>
              <a:t>6.Modulis. Psihologiem. 5.daļa</a:t>
            </a:r>
            <a:endParaRPr b="0" lang="en-US" sz="3200" spc="-1" strike="noStrike">
              <a:solidFill>
                <a:srgbClr val="c6168d"/>
              </a:solidFill>
              <a:latin typeface="Lucida Sans"/>
            </a:endParaRPr>
          </a:p>
        </p:txBody>
      </p:sp>
      <p:sp>
        <p:nvSpPr>
          <p:cNvPr id="8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Narkotikas un alkohol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Epid</a:t>
            </a:r>
            <a:r>
              <a:rPr b="0" lang="lv-LV" sz="2400" spc="-1" strike="noStrike">
                <a:solidFill>
                  <a:srgbClr val="c6168d"/>
                </a:solidFill>
                <a:latin typeface="Lucida Sans"/>
              </a:rPr>
              <a:t>emioloģija</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ētījumi pierāda, ka 56% no VSV regulāri lieto vairāk narkotikas pirms gadījuma seksa (īpaši inhalantus, viagru, marihuānu, ekstazī un GHB).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stāv arī risks nodoties anālajam seksam bez izsargāšanās. HIV inficēto pacientu pētījumi ziņo, ka 88% lieto vismaz vienu no narkotikām, bet 53%, kuri lieto narkotikas, bet ar HIV nav inficēti, vai arī nav veikuši testu </a:t>
            </a:r>
            <a:r>
              <a:rPr b="0" lang="lv-LV" sz="1200" spc="-1" strike="noStrike">
                <a:solidFill>
                  <a:srgbClr val="1b2764"/>
                </a:solidFill>
                <a:latin typeface="Lucida Sans"/>
              </a:rPr>
              <a:t>(Schorer Monitor 2008)</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ietekme uz imūnsistēmu</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125000"/>
            <a:ext cx="8229600" cy="4813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zmēģinājumi ar dzīvniekiem, liecina, ka dažādu narkotiku lietošana ir liels risks tam, ka tiks traucēta imūnsistēma, tādējādi, iespējamo kofaktoru ietekmē, paātrinās iespēja inficēties ar HIV </a:t>
            </a:r>
            <a:r>
              <a:rPr b="0" lang="lv-LV" sz="1200" spc="-1" strike="noStrike">
                <a:solidFill>
                  <a:srgbClr val="1b2764"/>
                </a:solidFill>
                <a:latin typeface="Lucida Sans"/>
              </a:rPr>
              <a:t>(Friedman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arkotiku lietošana, tādu kā kokaīns, marihuāna un opiāti, samazina imūnsistēmas reakciju tās tiešā veidā ietekmē šūnas un netiešā veidā stimulē hipotalāma – hipofīzes funkciju virsnieru asī (HPA), palielinās glikokortikoīdi un, līdz ar to, rodas imūnās sistēmas traucējumi.</a:t>
            </a:r>
            <a:r>
              <a:rPr b="0" lang="lv-LV" sz="2000" spc="-1" strike="noStrike">
                <a:solidFill>
                  <a:srgbClr val="ff0000"/>
                </a:solidFill>
                <a:latin typeface="Lucida Sans"/>
              </a:rPr>
              <a:t>(?)</a:t>
            </a:r>
            <a:r>
              <a:rPr b="0" lang="lv-LV" sz="2000" spc="-1" strike="noStrike">
                <a:solidFill>
                  <a:srgbClr val="1b2764"/>
                </a:solidFill>
                <a:latin typeface="Lucida Sans"/>
              </a:rPr>
              <a:t> Tomēr nav epidemioloģisku pētījumu, kas skaidri parādītu cēloņu un seku sakarības.</a:t>
            </a:r>
            <a:r>
              <a:rPr b="0" lang="nl-NL" sz="2000" spc="-1" strike="noStrike">
                <a:solidFill>
                  <a:srgbClr val="1b2764"/>
                </a:solidFill>
                <a:latin typeface="Lucida Sans"/>
              </a:rPr>
              <a:t> (</a:t>
            </a:r>
            <a:r>
              <a:rPr b="0" lang="nl-NL" sz="1200" spc="-1" strike="noStrike">
                <a:solidFill>
                  <a:srgbClr val="1b2764"/>
                </a:solidFill>
                <a:latin typeface="Lucida Sans"/>
              </a:rPr>
              <a:t>Friedman et al 2006). </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vai kā, epidemioloģiskie pētījumi norāda uz saikni starp kokaīna lietošanu, HIV infekciju un progrosējošu AIDS slimību </a:t>
            </a:r>
            <a:r>
              <a:rPr b="0" lang="lv-LV" sz="1200" spc="-1" strike="noStrike">
                <a:solidFill>
                  <a:srgbClr val="1b2764"/>
                </a:solidFill>
                <a:latin typeface="Lucida Sans"/>
              </a:rPr>
              <a:t>(Lucas et al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un ARVT mijiedarbība</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Tetrahidrokanabinola (THC), kas ir marihuānas galvenā sastāvdaļa, metabolisms  daļēji sākas  CYP3A4. Spēcīgie  CYP3A4 inhibitori var dot spēcīgāku un ilgāku efektu no tetrahidrokanabinola THC </a:t>
            </a:r>
            <a:r>
              <a:rPr b="0" lang="lv-LV" sz="1200" spc="-1" strike="noStrike">
                <a:solidFill>
                  <a:srgbClr val="1b2764"/>
                </a:solidFill>
                <a:latin typeface="Lucida Sans"/>
              </a:rPr>
              <a:t>(Wynn 2005, Antoniou 2002).</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1b2764"/>
                </a:solidFill>
                <a:latin typeface="Lucida Sans"/>
              </a:rPr>
              <a:t>Kokaīns</a:t>
            </a:r>
            <a:r>
              <a:rPr b="0" lang="lv-LV" sz="2000" spc="-1" strike="noStrike">
                <a:solidFill>
                  <a:srgbClr val="1b2764"/>
                </a:solidFill>
                <a:latin typeface="Lucida Sans"/>
              </a:rPr>
              <a:t> sabojā organismu trīs dažādos veidos. Mazāk kā 10% kokaīna metabolisma iet caur CYP 3A4, tāpēc kokaīns hepatotoksiski pārvērš metabolītu norkokaīnā </a:t>
            </a:r>
            <a:r>
              <a:rPr b="0" lang="lv-LV" sz="1000" spc="-1" strike="noStrike">
                <a:solidFill>
                  <a:srgbClr val="1b2764"/>
                </a:solidFill>
                <a:latin typeface="Lucida Sans"/>
              </a:rPr>
              <a:t>(</a:t>
            </a:r>
            <a:r>
              <a:rPr b="0" lang="lv-LV" sz="1100" spc="-1" strike="noStrike">
                <a:solidFill>
                  <a:srgbClr val="1b2764"/>
                </a:solidFill>
                <a:latin typeface="Lucida Sans"/>
              </a:rPr>
              <a:t>Antoniou et al 2002</a:t>
            </a:r>
            <a:r>
              <a:rPr b="0" lang="lv-LV" sz="2000" spc="-1" strike="noStrike">
                <a:solidFill>
                  <a:srgbClr val="1b2764"/>
                </a:solidFill>
                <a:latin typeface="Lucida Sans"/>
              </a:rPr>
              <a:t>). CYP3A4 inhibotoru lietošana kopā ar kokaīnu, var ietekmēt kokaīna intoksikāciju. CYP3A4 ierosinātāji ar kokaīnu var izraisīt norkokaīna līmeņa paaugstināšanos, tādējādi atstājot nenovēršamas sekas uz cilvēka organismu. Nav pieejamas literatūras par klīnisko saistību </a:t>
            </a:r>
            <a:r>
              <a:rPr b="0" lang="lv-LV" sz="1200" spc="-1" strike="noStrike">
                <a:solidFill>
                  <a:srgbClr val="1b2764"/>
                </a:solidFill>
                <a:latin typeface="Lucida Sans"/>
              </a:rPr>
              <a:t>(Wynn 2005, Antoniou 2002)</a:t>
            </a:r>
            <a:r>
              <a:rPr b="0" lang="en-US"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un ARVT mijiedarbīb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980640"/>
            <a:ext cx="8229600" cy="5543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ādu iespaidu uz cilvēka organismu atstāj </a:t>
            </a:r>
            <a:r>
              <a:rPr b="0" i="1" lang="lv-LV" sz="2000" spc="-1" strike="noStrike">
                <a:solidFill>
                  <a:srgbClr val="1b2764"/>
                </a:solidFill>
                <a:latin typeface="Lucida Sans"/>
              </a:rPr>
              <a:t>GHB</a:t>
            </a:r>
            <a:r>
              <a:rPr b="0" lang="lv-LV" sz="2000" spc="-1" strike="noStrike">
                <a:solidFill>
                  <a:srgbClr val="1b2764"/>
                </a:solidFill>
                <a:latin typeface="Lucida Sans"/>
              </a:rPr>
              <a:t> lietošana, lielā mērā vēl nav izpētīts, ir daži pierādījumi, ka liela nozīme ir citohromam P450. Kādā ziņojumā (1999. Harrington et al) teikts, ka GHB pārdozēšana notikusi, kad tas lietots kopā ar RitonavIru/ Sauqinavir.</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tabolisms no metilēndioksimetamfetamīna ( MDMA, plašāk pazīstams kā </a:t>
            </a:r>
            <a:r>
              <a:rPr b="0" i="1" lang="lv-LV" sz="2000" spc="-1" strike="noStrike">
                <a:solidFill>
                  <a:srgbClr val="1b2764"/>
                </a:solidFill>
                <a:latin typeface="Lucida Sans"/>
              </a:rPr>
              <a:t>ekstazī</a:t>
            </a:r>
            <a:r>
              <a:rPr b="0" lang="lv-LV" sz="2000" spc="-1" strike="noStrike">
                <a:solidFill>
                  <a:srgbClr val="1b2764"/>
                </a:solidFill>
                <a:latin typeface="Lucida Sans"/>
              </a:rPr>
              <a:t>) nav pilnībā noskaidrots, bet tas kļūst vairāk metabolizēts ar CYP 2D6. Ilgstoši lietojot CYP 2D6 inhibitorus kopā ar MDMA var iestāties  MDMA intoksikācija. Klīniski nozīmīgu mijiedarbību star RitanovIru un MDMA ir aprakstījis  Harringtons 1999.gadā. Henry &amp; Hill (1998) tomēr apraksta fatālu MDMA un Ritonavira mijiedarbību. </a:t>
            </a:r>
            <a:r>
              <a:rPr b="0" i="1" lang="nl-NL" sz="2000" spc="-1" strike="noStrike">
                <a:solidFill>
                  <a:srgbClr val="1b2764"/>
                </a:solidFill>
                <a:latin typeface="Lucida Sans"/>
              </a:rPr>
              <a:t>Amfetamīna </a:t>
            </a:r>
            <a:r>
              <a:rPr b="0" lang="nl-NL" sz="2000" spc="-1" strike="noStrike">
                <a:solidFill>
                  <a:srgbClr val="1b2764"/>
                </a:solidFill>
                <a:latin typeface="Lucida Sans"/>
              </a:rPr>
              <a:t>un </a:t>
            </a:r>
            <a:r>
              <a:rPr b="0" i="1" lang="nl-NL" sz="2000" spc="-1" strike="noStrike">
                <a:solidFill>
                  <a:srgbClr val="1b2764"/>
                </a:solidFill>
                <a:latin typeface="Lucida Sans"/>
              </a:rPr>
              <a:t>metamfetamīna </a:t>
            </a:r>
            <a:r>
              <a:rPr b="0" lang="nl-NL" sz="2000" spc="-1" strike="noStrike">
                <a:solidFill>
                  <a:srgbClr val="1b2764"/>
                </a:solidFill>
                <a:latin typeface="Lucida Sans"/>
              </a:rPr>
              <a:t>metabolisms ir līdzīgs tam, kāds ir MDMA</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un ARVT mijiedarbība</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980640"/>
            <a:ext cx="8229600" cy="5543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Eksperimenti ar dzīvniekiem pierāda, ka </a:t>
            </a:r>
            <a:r>
              <a:rPr b="0" i="1" lang="lv-LV" sz="2000" spc="-1" strike="noStrike">
                <a:solidFill>
                  <a:srgbClr val="1b2764"/>
                </a:solidFill>
                <a:latin typeface="Lucida Sans"/>
              </a:rPr>
              <a:t>ketamīns</a:t>
            </a:r>
            <a:r>
              <a:rPr b="0" lang="lv-LV" sz="2000" spc="-1" strike="noStrike">
                <a:solidFill>
                  <a:srgbClr val="1b2764"/>
                </a:solidFill>
                <a:latin typeface="Lucida Sans"/>
              </a:rPr>
              <a:t> var būt CYP3A4 inhibitors (Antoniou 2002). Ketamīna lietošanā blakusparādības var rasties, ja tiek lietoti antiretrovirāli medikamenti (Wynn et al 2005).</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1b2764"/>
                </a:solidFill>
                <a:latin typeface="Lucida Sans"/>
              </a:rPr>
              <a:t>Heroīns</a:t>
            </a:r>
            <a:r>
              <a:rPr b="0" lang="lv-LV" sz="2000" spc="-1" strike="noStrike">
                <a:solidFill>
                  <a:srgbClr val="1b2764"/>
                </a:solidFill>
                <a:latin typeface="Lucida Sans"/>
              </a:rPr>
              <a:t> ietekmē citrohroma P450 sistēmu. </a:t>
            </a:r>
            <a:r>
              <a:rPr b="0" lang="nl-NL" sz="2000" spc="-1" strike="noStrike">
                <a:solidFill>
                  <a:srgbClr val="1b2764"/>
                </a:solidFill>
                <a:latin typeface="Lucida Sans"/>
              </a:rPr>
              <a:t>Bet ārstēšanai no heroīna atkarības plaši izmantotais medikaments </a:t>
            </a:r>
            <a:r>
              <a:rPr b="0" i="1" lang="nl-NL" sz="2000" spc="-1" strike="noStrike">
                <a:solidFill>
                  <a:srgbClr val="1b2764"/>
                </a:solidFill>
                <a:latin typeface="Lucida Sans"/>
              </a:rPr>
              <a:t>metadons</a:t>
            </a:r>
            <a:r>
              <a:rPr b="0" lang="nl-NL" sz="2000" spc="-1" strike="noStrike">
                <a:solidFill>
                  <a:srgbClr val="1b2764"/>
                </a:solidFill>
                <a:latin typeface="Lucida Sans"/>
              </a:rPr>
              <a:t>  pirmkārt metabolizējas caur  CYP3A4 un mazliet mazākā mērā caur CYP 2D6, 2C9, 2E1 un 1A2. Vienlaicīgi ar antiretrov</a:t>
            </a:r>
            <a:r>
              <a:rPr b="0" lang="lv-LV" sz="2000" spc="-1" strike="noStrike">
                <a:solidFill>
                  <a:srgbClr val="1b2764"/>
                </a:solidFill>
                <a:latin typeface="Lucida Sans"/>
              </a:rPr>
              <a:t>īrusu</a:t>
            </a:r>
            <a:r>
              <a:rPr b="0" lang="nl-NL" sz="2000" spc="-1" strike="noStrike">
                <a:solidFill>
                  <a:srgbClr val="1b2764"/>
                </a:solidFill>
                <a:latin typeface="Lucida Sans"/>
              </a:rPr>
              <a:t> medikamentiem (īpaši proteāzes inhibitori ), metadons noved pie pāātrinātas metadona degradācijas un pacientam rodas absistences simptomi. Arī buprenorfīns (citas zāles, kas paredzētas heroīna atkarības ārstēšanai) metabolizē  CYP 3A4, var mijiedarboties ar ARTV.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narkotikas un ārstēšanās rezultāti</a:t>
            </a:r>
            <a:br>
              <a:rPr sz="2000"/>
            </a:br>
            <a:endParaRPr b="0" lang="en-US" sz="2000" spc="-1" strike="noStrike">
              <a:solidFill>
                <a:srgbClr val="c6168d"/>
              </a:solidFill>
              <a:latin typeface="Lucida Sans"/>
            </a:endParaRPr>
          </a:p>
        </p:txBody>
      </p:sp>
      <p:sp>
        <p:nvSpPr>
          <p:cNvPr id="111" name="PlaceHolder 2"/>
          <p:cNvSpPr>
            <a:spLocks noGrp="1"/>
          </p:cNvSpPr>
          <p:nvPr>
            <p:ph/>
          </p:nvPr>
        </p:nvSpPr>
        <p:spPr>
          <a:xfrm>
            <a:off x="324000" y="1125000"/>
            <a:ext cx="8229600" cy="48135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ktīva kokaīna un heroīna lietošana ir saistīta ar  samazinātu  reakciju virusaloģiskajā  un imunoloģiskajā ārstēšanā. Cilvēkiem, kuri agrāk lietojuši heroīnu un kokaīnu, ir līdzīgi ārstēšanās rezultāti ar cilvēkiem, kuri narkotikas nelieto (Lucas e2001, 2006). Aktīva kokaīna lietošana  ir cieši saistīta ar nelīdzestību antiretrovīrusu vielu lietošanai (Chander 2006, Arnsten et al 2002).</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arī kā, šī pētījuma rezultātā,ir skaidrs, ka cilvēkiem, kuri ir aktīvi narkotiku lietotāji, arī saņem ARTV medikamentus/ terapiju.  Ir ļoti būtiski izveidot individuālu ārstēšanas plānu, kurā pacientam tiek sniegta konsultācija par ARTV lietošanas nozīmi  un narkotiku atkarības ārstēšanas iespējām. Pārrunājiet ar pacientu viņa/viņas  izvēli par narkotiku lietošanu. Vai tas tajā pašā laikā netraucē lietot zāles? Vai ir iespējams nomainīt narkotiku lietošanu pret regulāru ARVT lietošan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zīšanās alkohola lietošanā, novērtējums un pārbaudes</a:t>
            </a:r>
            <a:endParaRPr b="0" lang="en-US" sz="2000" spc="-1" strike="noStrike">
              <a:solidFill>
                <a:srgbClr val="c6168d"/>
              </a:solidFill>
              <a:latin typeface="Lucida Sans"/>
            </a:endParaRPr>
          </a:p>
        </p:txBody>
      </p:sp>
      <p:sp>
        <p:nvSpPr>
          <p:cNvPr id="113" name="PlaceHolder 2"/>
          <p:cNvSpPr>
            <a:spLocks noGrp="1"/>
          </p:cNvSpPr>
          <p:nvPr>
            <p:ph/>
          </p:nvPr>
        </p:nvSpPr>
        <p:spPr>
          <a:xfrm>
            <a:off x="303120" y="907560"/>
            <a:ext cx="8229600" cy="5761080"/>
          </a:xfrm>
          <a:prstGeom prst="rect">
            <a:avLst/>
          </a:prstGeom>
          <a:noFill/>
          <a:ln w="0">
            <a:noFill/>
          </a:ln>
        </p:spPr>
        <p:txBody>
          <a:bodyPr anchor="t">
            <a:normAutofit fontScale="92000"/>
          </a:bodyPr>
          <a:p>
            <a:pPr marL="315360" indent="-745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rofesionāļi par pārmērīgu alkohola lietošanu izsakās negatīvi. Pārsvarā alkoholiķi runā par alkoholismu, jo alkohols viņiem liekas saistošas. Izredzes pārtraukt lietot alkoholu, viņiem neliekas interesantas. Izmantojot motivējošas sarunas, iespējams mainīt viņu attieksmi. </a:t>
            </a:r>
            <a:endParaRPr b="0" lang="en-US" sz="2000" spc="-1" strike="noStrike">
              <a:solidFill>
                <a:srgbClr val="1b2764"/>
              </a:solidFill>
              <a:latin typeface="Lucida Sans"/>
            </a:endParaRPr>
          </a:p>
          <a:p>
            <a:pPr marL="315360" indent="-745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ādas pazīmes norāda uz alkoholisma problēmu:</a:t>
            </a:r>
            <a:br>
              <a:rPr sz="2000"/>
            </a:br>
            <a:r>
              <a:rPr b="0" lang="lv-LV" sz="2000" spc="-1" strike="noStrike">
                <a:solidFill>
                  <a:srgbClr val="1b2764"/>
                </a:solidFill>
                <a:latin typeface="Lucida Sans"/>
              </a:rPr>
              <a:t>- Paziņojums par savu problēmu ar alkoholu sarunā ar ģimeni un draugiem. </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Šādi paziņojumi vienmēr jāuztver nopietni</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siholoģiskas dabas sūdzības par savu problēmu, piemēram, trauksme, panikas lēkmes, depresijas simptomi, domas par pašnāvību.   </a:t>
            </a:r>
            <a:br>
              <a:rPr sz="2000"/>
            </a:br>
            <a:r>
              <a:rPr b="0" lang="lv-LV" sz="2000" spc="-1" strike="noStrike">
                <a:solidFill>
                  <a:srgbClr val="1b2764"/>
                </a:solidFill>
                <a:latin typeface="Lucida Sans"/>
              </a:rPr>
              <a:t>- Sūdzības par nogurumu, drebuļiem, pārmērīgu svīšanu</a:t>
            </a:r>
            <a:br>
              <a:rPr sz="2000"/>
            </a:br>
            <a:r>
              <a:rPr b="0" lang="lv-LV" sz="2000" spc="-1" strike="noStrike">
                <a:solidFill>
                  <a:srgbClr val="1b2764"/>
                </a:solidFill>
                <a:latin typeface="Lucida Sans"/>
              </a:rPr>
              <a:t>- Problēmas ar kuņģa un zarnu trakta darbību: atraugas, gastrīts, caureja, pankreatīts</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Bieži lieto trankvilizatorus un miega zāles.</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acients ož pēc alkohola.</a:t>
            </a:r>
            <a:br>
              <a:rPr sz="2000"/>
            </a:br>
            <a:br>
              <a:rPr sz="20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zīšanās alkohola lietošanā, novērtējums un pārbaudes</a:t>
            </a:r>
            <a:endParaRPr b="0" lang="en-US" sz="2000" spc="-1" strike="noStrike">
              <a:solidFill>
                <a:srgbClr val="c6168d"/>
              </a:solidFill>
              <a:latin typeface="Lucida Sans"/>
            </a:endParaRPr>
          </a:p>
        </p:txBody>
      </p:sp>
      <p:sp>
        <p:nvSpPr>
          <p:cNvPr id="115" name="PlaceHolder 2"/>
          <p:cNvSpPr>
            <a:spLocks noGrp="1"/>
          </p:cNvSpPr>
          <p:nvPr>
            <p:ph/>
          </p:nvPr>
        </p:nvSpPr>
        <p:spPr>
          <a:xfrm>
            <a:off x="303120" y="1628280"/>
            <a:ext cx="8229600" cy="4310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ādi signāli pastiprina aizdo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miņas zudums</a:t>
            </a:r>
            <a:br>
              <a:rPr sz="2000"/>
            </a:br>
            <a:r>
              <a:rPr b="0" lang="lv-LV" sz="2000" spc="-1" strike="noStrike">
                <a:solidFill>
                  <a:srgbClr val="1b2764"/>
                </a:solidFill>
                <a:latin typeface="Lucida Sans"/>
              </a:rPr>
              <a:t>- Seksuālas problēmas</a:t>
            </a:r>
            <a:br>
              <a:rPr sz="2000"/>
            </a:br>
            <a:r>
              <a:rPr b="0" lang="lv-LV" sz="2000" spc="-1" strike="noStrike">
                <a:solidFill>
                  <a:srgbClr val="1b2764"/>
                </a:solidFill>
                <a:latin typeface="Lucida Sans"/>
              </a:rPr>
              <a:t>- Smēķēšana</a:t>
            </a:r>
            <a:br>
              <a:rPr sz="2000"/>
            </a:br>
            <a:r>
              <a:rPr b="0" lang="lv-LV" sz="2000" spc="-1" strike="noStrike">
                <a:solidFill>
                  <a:srgbClr val="1b2764"/>
                </a:solidFill>
                <a:latin typeface="Lucida Sans"/>
              </a:rPr>
              <a:t>- Podagra</a:t>
            </a:r>
            <a:br>
              <a:rPr sz="2000"/>
            </a:br>
            <a:r>
              <a:rPr b="0" lang="lv-LV" sz="2000" spc="-1" strike="noStrike">
                <a:solidFill>
                  <a:srgbClr val="1b2764"/>
                </a:solidFill>
                <a:latin typeface="Lucida Sans"/>
              </a:rPr>
              <a:t>- Sarkana un/vai pietūkusi seja. Sejas asinsvadi tuvu pie ādas</a:t>
            </a:r>
            <a:br>
              <a:rPr sz="2000"/>
            </a:br>
            <a:r>
              <a:rPr b="0" lang="lv-LV" sz="2000" spc="-1" strike="noStrike">
                <a:solidFill>
                  <a:srgbClr val="1b2764"/>
                </a:solidFill>
                <a:latin typeface="Lucida Sans"/>
              </a:rPr>
              <a:t>- Bieži negadījumi/lūzumi</a:t>
            </a:r>
            <a:br>
              <a:rPr sz="2000"/>
            </a:br>
            <a:r>
              <a:rPr b="0" lang="lv-LV" sz="2000" spc="-1" strike="noStrike">
                <a:solidFill>
                  <a:srgbClr val="1b2764"/>
                </a:solidFill>
                <a:latin typeface="Lucida Sans"/>
              </a:rPr>
              <a:t>- Izmaiņas asinsainā – MCV un gamma GTI</a:t>
            </a:r>
            <a:br>
              <a:rPr sz="2000"/>
            </a:br>
            <a:r>
              <a:rPr b="0" lang="lv-LV" sz="2000" spc="-1" strike="noStrike">
                <a:solidFill>
                  <a:srgbClr val="1b2764"/>
                </a:solidFill>
                <a:latin typeface="Lucida Sans"/>
              </a:rPr>
              <a:t>- Alkohola problēmas ģimenē</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zīšanās alkohola lietošanā, novērtējums un pārbaudes</a:t>
            </a:r>
            <a:endParaRPr b="0" lang="en-US" sz="2000" spc="-1" strike="noStrike">
              <a:solidFill>
                <a:srgbClr val="c6168d"/>
              </a:solidFill>
              <a:latin typeface="Lucida Sans"/>
            </a:endParaRPr>
          </a:p>
        </p:txBody>
      </p:sp>
      <p:sp>
        <p:nvSpPr>
          <p:cNvPr id="117" name="PlaceHolder 2"/>
          <p:cNvSpPr>
            <a:spLocks noGrp="1"/>
          </p:cNvSpPr>
          <p:nvPr>
            <p:ph/>
          </p:nvPr>
        </p:nvSpPr>
        <p:spPr>
          <a:xfrm>
            <a:off x="250560" y="1125000"/>
            <a:ext cx="8569080" cy="4813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utājumi par alkoholu. Ko vēl varētu pajautāt:</a:t>
            </a:r>
            <a:br>
              <a:rPr sz="2000"/>
            </a:br>
            <a:br>
              <a:rPr sz="2000"/>
            </a:br>
            <a:r>
              <a:rPr b="0" lang="lv-LV" sz="2000" spc="-1" strike="noStrike">
                <a:solidFill>
                  <a:srgbClr val="1b2764"/>
                </a:solidFill>
                <a:latin typeface="Lucida Sans"/>
              </a:rPr>
              <a:t>-Kāda ir alkohola pozitīvā ietekme?</a:t>
            </a:r>
            <a:br>
              <a:rPr sz="2000"/>
            </a:br>
            <a:r>
              <a:rPr b="0" lang="lv-LV" sz="2000" spc="-1" strike="noStrike">
                <a:solidFill>
                  <a:srgbClr val="1b2764"/>
                </a:solidFill>
                <a:latin typeface="Lucida Sans"/>
              </a:rPr>
              <a:t>-Vai jūs kādreiz satraucaties par dzeršanu?</a:t>
            </a:r>
            <a:br>
              <a:rPr sz="2000"/>
            </a:br>
            <a:r>
              <a:rPr b="0" lang="lv-LV" sz="2000" spc="-1" strike="noStrike">
                <a:solidFill>
                  <a:srgbClr val="1b2764"/>
                </a:solidFill>
                <a:latin typeface="Lucida Sans"/>
              </a:rPr>
              <a:t>-Vai dzerat viens, vai kompānijā?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Vai spējat apstāties pēc dažām glāzītēm?</a:t>
            </a:r>
            <a:br>
              <a:rPr sz="2000"/>
            </a:br>
            <a:r>
              <a:rPr b="0" lang="lv-LV" sz="2000" spc="-1" strike="noStrike">
                <a:solidFill>
                  <a:srgbClr val="1b2764"/>
                </a:solidFill>
                <a:latin typeface="Lucida Sans"/>
              </a:rPr>
              <a:t> -Cik daudz jūs dzerat? Cik izdzērāt pagājušajā nedēļā? </a:t>
            </a:r>
            <a:br>
              <a:rPr sz="2000"/>
            </a:br>
            <a:r>
              <a:rPr b="0" lang="lv-LV" sz="2000" spc="-1" strike="noStrike">
                <a:solidFill>
                  <a:srgbClr val="1b2764"/>
                </a:solidFill>
                <a:latin typeface="Lucida Sans"/>
              </a:rPr>
              <a:t> -Vai jūsu ģimenē ir alkoholisma probl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Alkohola ietekme uz seksuālo uzvedību</a:t>
            </a:r>
            <a:endParaRPr b="0" lang="en-US" sz="24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lkohols ir riska faktors seksam bez izsargāšanās. Alkohols kavē un rada nepārdomātas rīcības. Jauni cilvēki, kuri lieto alkoholu, visbiežāk aizmirst par izsargāšanos seksuālo kontaktu laikā. Ja viņi lieto alkoholu un piedzer</a:t>
            </a:r>
            <a:r>
              <a:rPr b="0" lang="lv-LV" sz="2000" spc="-1" strike="noStrike">
                <a:solidFill>
                  <a:srgbClr val="1b2764"/>
                </a:solidFill>
                <a:latin typeface="Lucida Sans"/>
              </a:rPr>
              <a:t>a</a:t>
            </a:r>
            <a:r>
              <a:rPr b="0" lang="en-US" sz="2000" spc="-1" strike="noStrike">
                <a:solidFill>
                  <a:srgbClr val="1b2764"/>
                </a:solidFill>
                <a:latin typeface="Lucida Sans"/>
              </a:rPr>
              <a:t>s, viņi neiedomājas par izsargāšanos </a:t>
            </a:r>
            <a:r>
              <a:rPr b="0" lang="en-US" sz="1200" spc="-1" strike="noStrike">
                <a:solidFill>
                  <a:srgbClr val="1b2764"/>
                </a:solidFill>
                <a:latin typeface="Lucida Sans"/>
              </a:rPr>
              <a:t>(Grünbaum 2002).</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Ņujorkā veiktais pētījums rāda, ka iedzeršana veicina biežu partneru maiņu. Pārmērīgas dzeršanas rezultātā, alkohola koncentrācija asinīs palielinās līdz pat 0,8 tūkstošdaļām. Tas notiek pēc 5 – 6 glāžu izdzeršanas. 40% no regulārajie uzdzīvotājiem, iepriekšējā gadā bijis vairāk par 5 seksuālajiem partneriem, savukārt, tiem, kuri alkoholu nelieto, vai lieto reti, tik daudz partneru bijis tikai 20% gadījumos</a:t>
            </a:r>
            <a:r>
              <a:rPr b="0" lang="lv-LV" sz="2000" spc="-1" strike="noStrike">
                <a:solidFill>
                  <a:srgbClr val="1b2764"/>
                </a:solidFill>
                <a:latin typeface="Lucida Sans"/>
              </a:rPr>
              <a:t> </a:t>
            </a:r>
            <a:r>
              <a:rPr b="0" lang="en-US" sz="1200" spc="-1" strike="noStrike">
                <a:solidFill>
                  <a:srgbClr val="1b2764"/>
                </a:solidFill>
                <a:latin typeface="Lucida Sans"/>
              </a:rPr>
              <a:t>(Farley 200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as. Ievads</a:t>
            </a:r>
            <a:endParaRPr b="0" lang="en-US" sz="2000" spc="-1" strike="noStrike">
              <a:solidFill>
                <a:srgbClr val="c6168d"/>
              </a:solidFill>
              <a:latin typeface="Lucida Sans"/>
            </a:endParaRPr>
          </a:p>
        </p:txBody>
      </p:sp>
      <p:sp>
        <p:nvSpPr>
          <p:cNvPr id="85" name="PlaceHolder 2"/>
          <p:cNvSpPr>
            <a:spLocks noGrp="1"/>
          </p:cNvSpPr>
          <p:nvPr>
            <p:ph/>
          </p:nvPr>
        </p:nvSpPr>
        <p:spPr>
          <a:xfrm>
            <a:off x="303120" y="1196640"/>
            <a:ext cx="8229600" cy="525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ādu atkarības vielu lietošana notiek bieži, taču ne vienmēr tā ir uzreiz pamanāma.  Aizraušanās ar atkarību izraisošām vielām, kādreiz tika uzskatīta par morālo vājumu, tagad mēs izmantojam bio – psihosociālo modeli, kur atkarības tiek izskatītas kā mijiedarbība starp  iedzimtu neaizsargātību, personības attīstību un dažādiem citiem apstākļiem. Medicīniski bioloģiskajiem aspektiem ir daudz lielāka nozīme; atkarība, kā smadzeņu slimība </a:t>
            </a:r>
            <a:r>
              <a:rPr b="0" lang="lv-LV" sz="1200" spc="-1" strike="noStrike">
                <a:solidFill>
                  <a:srgbClr val="1b2764"/>
                </a:solidFill>
                <a:latin typeface="Lucida Sans"/>
              </a:rPr>
              <a:t>(Brink, van den et al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eža narkotiku lietošana noved pie izmaiņām cilvēka smadzenēs (Volkow et al 2004), radot tieksmi pēc atkarības.  Alkas pēc narkotikām ir spēcīgas un var būt pat nekontrolējamas, tāpēc cilvēks tās lieto un pat atsāk lietot, ja kādreiz to lietošanu pārtraucis. Cilvēks nedomā par narkotiku ietekmi uz garīgo un fizisko veselību, kā to lietošana var ietekmēt tuviniekus un citus cilvēkus. Narkotiku lietošana var ietekmēt HIV izplatību un HIV ārstēšan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Alkohola ietekme uz seksuālo uzvedību</a:t>
            </a:r>
            <a:endParaRPr b="0" lang="en-US" sz="2400" spc="-1" strike="noStrike">
              <a:solidFill>
                <a:srgbClr val="c6168d"/>
              </a:solidFill>
              <a:latin typeface="Lucida Sans"/>
            </a:endParaRPr>
          </a:p>
        </p:txBody>
      </p:sp>
      <p:sp>
        <p:nvSpPr>
          <p:cNvPr id="121"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lkohola lietošana var atstāt ļoti dažadas negatīvas sekas, Tas var atstāt nopietnas sekas uz smadzeņu darbību, iespējama smadzeņu šūnu noārdīšanās. Cilvēkiem, kuri lieto alkoholu, ir biežāks sekss bez izsargāšanās</a:t>
            </a:r>
            <a:r>
              <a:rPr b="0" lang="lv-LV" sz="2000" spc="-1" strike="noStrike">
                <a:solidFill>
                  <a:srgbClr val="1b2764"/>
                </a:solidFill>
                <a:latin typeface="Lucida Sans"/>
              </a:rPr>
              <a:t>. </a:t>
            </a:r>
            <a:r>
              <a:rPr b="0" lang="en-US" sz="2000" spc="-1" strike="noStrike">
                <a:solidFill>
                  <a:srgbClr val="1b2764"/>
                </a:solidFill>
                <a:latin typeface="Lucida Sans"/>
              </a:rPr>
              <a:t>Lielu lomu spēlē arī tas, ko jūs cerat gūt no alkohola. Tas nozīmē, ka cilvēkiem, kas sajūsminās par alkoholu un jūtas labāk ir biežāks sekss bez izsargāšanās, nekā tad, ja nebūtu šo cerību  (Cooper 2002).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lkohols un imūnsistēma</a:t>
            </a:r>
            <a:br>
              <a:rPr sz="2000"/>
            </a:br>
            <a:endParaRPr b="0" lang="en-US" sz="2000" spc="-1" strike="noStrike">
              <a:solidFill>
                <a:srgbClr val="c6168d"/>
              </a:solidFill>
              <a:latin typeface="Lucida Sans"/>
            </a:endParaRPr>
          </a:p>
        </p:txBody>
      </p:sp>
      <p:sp>
        <p:nvSpPr>
          <p:cNvPr id="12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lkohols var nopietni ietekmēt imūnsistēmu. Pārmērīga alkohola lietošana noved pie neveselīga dzīvesveida, neregulāras ēšanas un miega traucējumiem. Šāds dzīvesveids grauj imūnsistēm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vai kā, hroniska alkohola lietošana var izraisīt smagas slimības, tādas, kā tuberkoloze un pneimonija </a:t>
            </a:r>
            <a:r>
              <a:rPr b="0" lang="lv-LV" sz="1200" spc="-1" strike="noStrike">
                <a:solidFill>
                  <a:srgbClr val="1b2764"/>
                </a:solidFill>
                <a:latin typeface="Lucida Sans"/>
              </a:rPr>
              <a:t>(Cook 1998). </a:t>
            </a:r>
            <a:r>
              <a:rPr b="0" lang="lv-LV" sz="2000" spc="-1" strike="noStrike">
                <a:solidFill>
                  <a:srgbClr val="1b2764"/>
                </a:solidFill>
                <a:latin typeface="Lucida Sans"/>
              </a:rPr>
              <a:t>Ir izpētīts, ka hroniska alkohola lietošana ietekmē aknu darbības funkcijas </a:t>
            </a:r>
            <a:r>
              <a:rPr b="0" lang="lv-LV" sz="1200" spc="-1" strike="noStrike">
                <a:solidFill>
                  <a:srgbClr val="1b2764"/>
                </a:solidFill>
                <a:latin typeface="Lucida Sans"/>
              </a:rPr>
              <a:t>(Cook 199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lkohola un ARVT lietošanas mijiedarbība</a:t>
            </a:r>
            <a:endParaRPr b="0" lang="en-US" sz="2000" spc="-1" strike="noStrike">
              <a:solidFill>
                <a:srgbClr val="c6168d"/>
              </a:solidFill>
              <a:latin typeface="Lucida Sans"/>
            </a:endParaRPr>
          </a:p>
        </p:txBody>
      </p:sp>
      <p:sp>
        <p:nvSpPr>
          <p:cNvPr id="12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av pubilcēti pētījumi par ARVT un alkohola lietošanas mijiedarbību. Satraukumu rada ARVT līmenis alkoholiķiem, kuriem ir bojātas aknas. Piemēram, abakavirs ir kā alkohola dehidrogenāze bojātajās aknās, kas abakavīra iedarbību samazina un pusi.</a:t>
            </a:r>
            <a:r>
              <a:rPr b="0" lang="lv-LV" sz="2000" spc="-1" strike="noStrike">
                <a:solidFill>
                  <a:srgbClr val="ff0000"/>
                </a:solidFill>
                <a:latin typeface="Lucida Sans"/>
              </a:rPr>
              <a:t>(?)</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ārmērīga alkohola lietošana samazina uzmanības noturību(Samet, 2004). Ir svarīgi zināt, kāds ir jūsu pacienta alkohola lietošanas patēriņš.  Ja jūsu pacients lieto daudz alkoholu, tas kaitē gan fiziskajai, gan garīgajai veselībai un var ietekmēt ARTV terapiju. Alkohola atkarības ārstēšana ir ļoti būtiska.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Uzdevumi:</a:t>
            </a:r>
            <a:endParaRPr b="0" lang="en-US" sz="2400" spc="-1" strike="noStrike">
              <a:solidFill>
                <a:srgbClr val="c6168d"/>
              </a:solidFill>
              <a:latin typeface="Lucida Sans"/>
            </a:endParaRPr>
          </a:p>
        </p:txBody>
      </p:sp>
      <p:sp>
        <p:nvSpPr>
          <p:cNvPr id="127" name="PlaceHolder 2"/>
          <p:cNvSpPr>
            <a:spLocks noGrp="1"/>
          </p:cNvSpPr>
          <p:nvPr>
            <p:ph/>
          </p:nvPr>
        </p:nvSpPr>
        <p:spPr>
          <a:xfrm>
            <a:off x="303120" y="1196640"/>
            <a:ext cx="8229600" cy="5111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isa ir 36 gadus jauna sieviete (vai Toms, kuram arī ir 36 gadi). 5 gadus viņa ir inficēta ar HIV, bet pirms 3 gadiem uzsākusi antiretroviruālo medikamentu lietošanu. Viņai nav ne stabilu partnerattiecību,ne bērn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u no bērnības, viņai ir nomākts garastāvoklis. Tas uznāk un pāriet, un dažreiz šie depresīvie simptomi ilgst pat 6 mēnešus. Viņa slikti guļ un cieš no apetītes trūkuma.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d Lisa jūtas nomākta, viņa lieto daudz alkohola, apmēram 20 glāzītes vienā vakarā. Šādās reizēs viņai ir gadījuma sekss, visbiežāk, bez prezervatīva lietošanas. Kad viņa jūtas nomākta, viņa antiretrovīrusu medikamentus lieto neregulāri.  Viņai ir problēmas ar kuņģi un pirkstu galu jutīgum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1.jautājums</a:t>
            </a:r>
            <a:endParaRPr b="0" lang="en-US" sz="2400" spc="-1" strike="noStrike">
              <a:solidFill>
                <a:srgbClr val="c6168d"/>
              </a:solidFill>
              <a:latin typeface="Lucida Sans"/>
            </a:endParaRPr>
          </a:p>
        </p:txBody>
      </p:sp>
      <p:sp>
        <p:nvSpPr>
          <p:cNvPr id="129"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iņa pie jums ir atnākusi, jo jūtas depresīvi nomākta. Lisa uzsāka vizītes pie jums pirms diviem gadiem, bet tad tās pārtrauca. Tagad viņa atkal ir atnākusi, lai ar jums aprunātos. Viņai ir neskaidrības par alkoholismu.  Jums vēl šis tas jānoskaidro. Ko jūs viņai jautāsie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jautājums.</a:t>
            </a:r>
            <a:endParaRPr b="0" lang="en-US" sz="2400" spc="-1" strike="noStrike">
              <a:solidFill>
                <a:srgbClr val="c6168d"/>
              </a:solidFill>
              <a:latin typeface="Lucida Sans"/>
            </a:endParaRPr>
          </a:p>
        </p:txBody>
      </p:sp>
      <p:sp>
        <p:nvSpPr>
          <p:cNvPr id="131" name="PlaceHolder 2"/>
          <p:cNvSpPr>
            <a:spLocks noGrp="1"/>
          </p:cNvSpPr>
          <p:nvPr>
            <p:ph/>
          </p:nvPr>
        </p:nvSpPr>
        <p:spPr>
          <a:xfrm>
            <a:off x="303120" y="2205000"/>
            <a:ext cx="8229600" cy="3733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Jūs esat norūpējies par pacientes dzimumdzīvi, kura notiek alkohola iespaidā, un nelietojot izsargāšanās līdzekļus. Izrunājiet šo lietu ar pacie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87" name="PlaceHolder 2"/>
          <p:cNvSpPr>
            <a:spLocks noGrp="1"/>
          </p:cNvSpPr>
          <p:nvPr>
            <p:ph/>
          </p:nvPr>
        </p:nvSpPr>
        <p:spPr>
          <a:xfrm>
            <a:off x="303120" y="1413000"/>
            <a:ext cx="851688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izraušanās ar narkotiskajām vielām ir slimība, kuru bieži skaidro kā izvairīšanos no dažādām problēmām. To ir grūti diagnosticēt. Ir svarīgi būt atklātam pret pacientu, izvairīties  no moralizēšanas. Ļoti var palīdzēt motivējoša saruna (Miller, 2005). Jūs varat uzdot uzvedinošus jautājumus par narkotiku problēm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esat kādreiz mēģinājis pārtraukt narkotiku lietošanu? Kā jūs to darījā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ums kādreiz ir bijuši sirdsapziņas pārmetumi pēc narkotiku lieto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nožēlojat savu uzvedību, pēc narkotiku lieto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kaitina tas, ka cilvēki nosoda un komentē to, ka aizraujaties ar narkotikām?</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89" name="PlaceHolder 2"/>
          <p:cNvSpPr>
            <a:spLocks noGrp="1"/>
          </p:cNvSpPr>
          <p:nvPr>
            <p:ph/>
          </p:nvPr>
        </p:nvSpPr>
        <p:spPr>
          <a:xfrm>
            <a:off x="303120" y="1413000"/>
            <a:ext cx="8516880" cy="4525920"/>
          </a:xfrm>
          <a:prstGeom prst="rect">
            <a:avLst/>
          </a:prstGeom>
          <a:noFill/>
          <a:ln w="9360">
            <a:solidFill>
              <a:srgbClr val="b51484"/>
            </a:solidFill>
            <a:miter/>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narkotiku lietošana traucē jūsu attiecībām ar ģimeni, draugiem un paziņām?</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skola/ darba vieta pieļauj, ka lietojat narkotikas?</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esat melojis šajā sakarā?</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jūs veicat nelegālas darbības (zagšana, prostitūcija u.c.), lai iegūtu naudu narkotiku iegādei</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jūs bieži domājat par narkotikām?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kādreiz esat meklējis palīdzību, lai pārtrauktu narkotiku lietošan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91" name="PlaceHolder 2"/>
          <p:cNvSpPr>
            <a:spLocks noGrp="1"/>
          </p:cNvSpPr>
          <p:nvPr>
            <p:ph/>
          </p:nvPr>
        </p:nvSpPr>
        <p:spPr>
          <a:xfrm>
            <a:off x="303120" y="1413000"/>
            <a:ext cx="8516880" cy="4525920"/>
          </a:xfrm>
          <a:prstGeom prst="rect">
            <a:avLst/>
          </a:prstGeom>
          <a:noFill/>
          <a:ln w="0">
            <a:noFill/>
          </a:ln>
        </p:spPr>
        <p:txBody>
          <a:bodyPr anchor="t">
            <a:normAutofit/>
          </a:bodyPr>
          <a:p>
            <a:pPr marL="26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2602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ļoti cieša saistība narkotiku lietošanai un seksam bez izsargāšanās (sk.nodaļu par epidemioloģiju), jums vienmēr jāpajautā pacientam, kurš lieto narkotikas; vai viņam/ viņai ir sekss un, vai šis sekss notiek ar izsargāšanos. </a:t>
            </a:r>
            <a:endParaRPr b="0" lang="en-US" sz="2000" spc="-1" strike="noStrike">
              <a:solidFill>
                <a:srgbClr val="1b2764"/>
              </a:solidFill>
              <a:latin typeface="Lucida Sans"/>
            </a:endParaRPr>
          </a:p>
          <a:p>
            <a:pPr marL="2602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agnostikas kritēriji par atkarības vielu lietošanu ir definēti DSM-IV klasifikācijas sistēmā. Ja pacients cieš no trauksmes sajūtas, depresijas, miega problēmām, ja viņam ir problēmas ģimenē un starp draugiem vai problēmas darbā, ja viņš veic noziedzīgas darbības, ja viņam ir parādi, ja viņš melo, ja neregulāri tiek ieturētas maltītes, mēģina iegūt benzodiazepīna vai opiātu receptes – tas viss liecina, ka pacientam ir problēmas ar alkohola un narkotiku lietošanu.</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93" name="PlaceHolder 2"/>
          <p:cNvSpPr>
            <a:spLocks noGrp="1"/>
          </p:cNvSpPr>
          <p:nvPr>
            <p:ph/>
          </p:nvPr>
        </p:nvSpPr>
        <p:spPr>
          <a:xfrm>
            <a:off x="303120" y="1916280"/>
            <a:ext cx="8516880" cy="4022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ārbaudot pacienta fizisko stāvokli, var atklāties, ka pacientam ir arī dažādas uzvedības problēmas: agresija, paranoja, trauksmes sajūta, vienaldzība, depresija, hipertensija, aritmija, bojāti zobi, HOPS (hroniska, obstruktīva plaušu slimība). Jāpievērš  uzmanība, vai pacientam ir vecas vai svaigas adatas dūrienu pēdas, sīkas brūces no kokaīna lietošanas. Sašaurinātas (jaunākiem cilvēkiem) vai  paplašinātas acu zīlītes un sarkanas acis ir pierādījums tam, ka ir lietoti nomierinoši līdzekļi vai stimulējoši līdzekļi (kokaīns, marihuāna, ekstazī, amfetamīns) .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95" name="PlaceHolder 2"/>
          <p:cNvSpPr>
            <a:spLocks noGrp="1"/>
          </p:cNvSpPr>
          <p:nvPr>
            <p:ph/>
          </p:nvPr>
        </p:nvSpPr>
        <p:spPr>
          <a:xfrm>
            <a:off x="179280" y="1484280"/>
            <a:ext cx="9144000" cy="4454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 ko var noskaidrot, izmeklējot pacienta urīnanalīzes. Urīnā saglabājas (Jellinek 2008):</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lv-LV" sz="2000" spc="-1" strike="noStrike">
                <a:solidFill>
                  <a:srgbClr val="1b2764"/>
                </a:solidFill>
                <a:latin typeface="Lucida Sans"/>
              </a:rPr>
              <a:t>Amfetamīns: 1 – 4 dienas</a:t>
            </a:r>
            <a:br>
              <a:rPr sz="2000"/>
            </a:br>
            <a:r>
              <a:rPr b="0" lang="lv-LV" sz="2000" spc="-1" strike="noStrike">
                <a:solidFill>
                  <a:srgbClr val="1b2764"/>
                </a:solidFill>
                <a:latin typeface="Lucida Sans"/>
              </a:rPr>
              <a:t>Benzodiazepīni/psihotropās vielas: 12 stundas – līdz 2 nedēļas. (tas atkarīgs, kādas zāles lietotas)</a:t>
            </a:r>
            <a:br>
              <a:rPr sz="2000"/>
            </a:br>
            <a:r>
              <a:rPr b="0" lang="lv-LV" sz="2000" spc="-1" strike="noStrike">
                <a:solidFill>
                  <a:srgbClr val="1b2764"/>
                </a:solidFill>
                <a:latin typeface="Lucida Sans"/>
              </a:rPr>
              <a:t>Marihuāna: ja lieto neregulāri, 1 – 3 dienām, 2 – 3 nedēļas, ja lieto hroniski bieži.</a:t>
            </a:r>
            <a:br>
              <a:rPr sz="2000"/>
            </a:br>
            <a:r>
              <a:rPr b="0" lang="lv-LV" sz="2000" spc="-1" strike="noStrike">
                <a:solidFill>
                  <a:srgbClr val="1b2764"/>
                </a:solidFill>
                <a:latin typeface="Lucida Sans"/>
              </a:rPr>
              <a:t>Kokaīns: 2 – 4 dienas, ja lieto neregulāri.Ilgāk par 8 dienām, ja lieto bieži</a:t>
            </a:r>
            <a:br>
              <a:rPr sz="2000"/>
            </a:br>
            <a:r>
              <a:rPr b="0" lang="lv-LV" sz="2000" spc="-1" strike="noStrike">
                <a:solidFill>
                  <a:srgbClr val="1b2764"/>
                </a:solidFill>
                <a:latin typeface="Lucida Sans"/>
              </a:rPr>
              <a:t>XTC: 3 dien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HB: līdz 12 stundām </a:t>
            </a:r>
            <a:br>
              <a:rPr sz="2000"/>
            </a:br>
            <a:r>
              <a:rPr b="0" lang="lv-LV" sz="2000" spc="-1" strike="noStrike">
                <a:solidFill>
                  <a:srgbClr val="1b2764"/>
                </a:solidFill>
                <a:latin typeface="Lucida Sans"/>
              </a:rPr>
              <a:t>Heroīns: 3-5 dienas </a:t>
            </a:r>
            <a:br>
              <a:rPr sz="2000"/>
            </a:br>
            <a:r>
              <a:rPr b="0" lang="lv-LV" sz="2000" spc="-1" strike="noStrike">
                <a:solidFill>
                  <a:srgbClr val="1b2764"/>
                </a:solidFill>
                <a:latin typeface="Lucida Sans"/>
              </a:rPr>
              <a:t>Metadons: 3 – 5 dien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Epidemioloģija</a:t>
            </a:r>
            <a:endParaRPr b="0" lang="en-US" sz="2400" spc="-1" strike="noStrike">
              <a:solidFill>
                <a:srgbClr val="c6168d"/>
              </a:solidFill>
              <a:latin typeface="Lucida Sans"/>
            </a:endParaRPr>
          </a:p>
        </p:txBody>
      </p:sp>
      <p:sp>
        <p:nvSpPr>
          <p:cNvPr id="97" name="PlaceHolder 2"/>
          <p:cNvSpPr>
            <a:spLocks noGrp="1"/>
          </p:cNvSpPr>
          <p:nvPr>
            <p:ph/>
          </p:nvPr>
        </p:nvSpPr>
        <p:spPr>
          <a:xfrm>
            <a:off x="303120" y="1125000"/>
            <a:ext cx="8229600" cy="481356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Lucida Sans"/>
              </a:rPr>
              <a:t>HIV inficētie vīrieši, kuriem ir sekss ar vīriešiem (VSV), biežāk lieto narkotikas (marihuāna, ekstazī, GHN, kokaīns), nekā VSV vīrieši, kuri nav inficēti ar HIV (Schorer Monitor 2008).  Pētījumi pierāda, ka nelikumīga recepšu izmantošana (miega zāles, nomierinoši līdzekļi, pretsāpju līdzekļi  un erektilās disfunkcijas uzlabošanas līdzekļi) ir biežāk sastopama starp VSV vīriešiem, kuri ir inficēti ar HIV, nekā ar VSV, kuriem šīs infekcijas nav (Kelly 2009). Vai šāda atšķirība ir arī starp HIV inficētām sievietēm un heteroseksuāliem vīriešiem, nav vēl izpētīts. </a:t>
            </a:r>
            <a:endParaRPr b="0" lang="en-US" sz="18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Lucida Sans"/>
              </a:rPr>
              <a:t>Visā pasaulē, 10% no HIV infekcijām, tiek iegūtas injicējot narkotiskās vielas (Chander 2006). Procentuāli inficēšanās ar HIV un C hepatītu, no intravenozo narkotiku lietošanas, īpatsvars ir ļoti liels. Līdzās riskam inficēties ar HIV vai kļūt par C hepatīta infekcijas pārnēsātāju , pastāv arī risks saslimt ar citām asins saslimšanām  - B hepatītu un daudzām citām slimībām, kuras var iekļūt organismā, lietojot intravenozās narkotikas(Hoogenboezem 2008).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Epidemioloģija</a:t>
            </a:r>
            <a:endParaRPr b="0" lang="en-US" sz="2400" spc="-1" strike="noStrike">
              <a:solidFill>
                <a:srgbClr val="c6168d"/>
              </a:solidFill>
              <a:latin typeface="Lucida Sans"/>
            </a:endParaRPr>
          </a:p>
        </p:txBody>
      </p:sp>
      <p:sp>
        <p:nvSpPr>
          <p:cNvPr id="99" name="PlaceHolder 2"/>
          <p:cNvSpPr>
            <a:spLocks noGrp="1"/>
          </p:cNvSpPr>
          <p:nvPr>
            <p:ph/>
          </p:nvPr>
        </p:nvSpPr>
        <p:spPr>
          <a:xfrm>
            <a:off x="303120" y="981000"/>
            <a:ext cx="8229600" cy="4957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ām no izplatītākajām narkotikām (kokaīnam, ekstazī, GHB, amfetamīnam un ketamīnam) ir spēcīgs atbrīvojošs efekts.  </a:t>
            </a:r>
            <a:br>
              <a:rPr sz="2000"/>
            </a:br>
            <a:r>
              <a:rPr b="0" lang="lv-LV" sz="2000" spc="-1" strike="noStrike">
                <a:solidFill>
                  <a:srgbClr val="1b2764"/>
                </a:solidFill>
                <a:latin typeface="Lucida Sans"/>
              </a:rPr>
              <a:t>It īpaši kokaīna un ekstazī bieža lietošana, veicina interesi par seksuāliem kontaktiem, jo lietojot šīs vielas, dzimumakts ir ilgāks </a:t>
            </a:r>
            <a:r>
              <a:rPr b="0" lang="lv-LV" sz="1200" spc="-1" strike="noStrike">
                <a:solidFill>
                  <a:srgbClr val="1b2764"/>
                </a:solidFill>
                <a:latin typeface="Lucida Sans"/>
              </a:rPr>
              <a:t>(Bellis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s fakts var palielināt seksuālo partneru skaitu un zaudēt kontroli pār prezervatīva lietošanas nozīmīgumu. Ja sekss notiek arvien biežāk, tiek bojātas dzimumorgānu gļotādas, kas, savukārt, kļūst par labu vidi HIV infekcijām un citām transmisīvām saslimšanām</a:t>
            </a:r>
            <a:r>
              <a:rPr b="0" lang="lv-LV" sz="1200" spc="-1" strike="noStrike">
                <a:solidFill>
                  <a:srgbClr val="1b2764"/>
                </a:solidFill>
                <a:latin typeface="Lucida Sans"/>
              </a:rPr>
              <a:t>(Colfax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Īpaši kokaīna lietotājiem ir palielināts seksuālās uzvedības risks, jo viņi bieži iegūst narkotikas, apmaiņā pret seksu (</a:t>
            </a:r>
            <a:r>
              <a:rPr b="0" lang="lv-LV" sz="1200" spc="-1" strike="noStrike">
                <a:solidFill>
                  <a:srgbClr val="1b2764"/>
                </a:solidFill>
                <a:latin typeface="Lucida Sans"/>
              </a:rPr>
              <a:t>Sanchez 2002).</a:t>
            </a: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6:42:14Z</dcterms:modified>
  <cp:revision>407</cp:revision>
  <dc:subject/>
  <dc:title>The treatment of alcohol dependent patients with a comorbid anxiety disorder</dc:title>
</cp:coreProperties>
</file>