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1.wmf" ContentType="image/x-wmf"/>
  <Override PartName="/ppt/media/image27.wmf" ContentType="image/x-wmf"/>
  <Override PartName="/ppt/media/image26.wmf" ContentType="image/x-wmf"/>
  <Override PartName="/ppt/media/image11.wmf" ContentType="image/x-wmf"/>
  <Override PartName="/ppt/media/image6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7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13.jpeg" ContentType="image/jpeg"/>
  <Override PartName="/ppt/media/image24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0179-F782-4EBE-90A9-6EC6943B6A64}" type="slidenum">
              <a:rPr b="0" lang="pl-PL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godność występuje wtedy, gdy twoje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ł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mienie głosu i słowa przystają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iebi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yli przekazują tę samą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adomoś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edy jesteś postrzegany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o osoba szcze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eś obdarzony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ufani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uczem do osiągnięcia tego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WDZIWIE KORZYSTNE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WIENIE (czyli trzeba być szczerym wobec tej osob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DA20-432F-4607-B87E-9F017CAE9D92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D8AC-F0F1-4112-8B34-06AB8659A2B4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ne poniżej zdania wypowied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 złością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udzeni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zaskoczeniem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ieteryjni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est późno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ałem dość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ójrz na mni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 się urodziłeś?”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uważ, jak język ciała, wyraz twarzy i szybkość odde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 łączą się ze sobą w różnych stanach emocjonalny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ff"/>
                </a:solidFill>
                <a:latin typeface="Calibri"/>
                <a:ea typeface="Times New Roman"/>
              </a:rPr>
              <a:t>Bądź wyczulony na niezgodności brzmienia głosu i gestów u innych. Zwróć uwagę na to, w jaki sposób tę niezgodność odczuwasz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Poproś przyjaciela o wysłuchanie wypowiadanych przez ciebie kwestii. Pozwól mu/jej zgadnąć, które z czterech wymienionych uczuć wyraziłeś. Jeśli nie jest to dla niego/niej oczywiste, musisz tak długo trenować, aż nie będzie co do tego żadnych wątpliwośc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CC2F-1EB2-475F-BD4E-230472FDA937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FD39-391E-43CE-87F7-FFDC509C1A8C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96B2-05A9-4F4A-8B77-9FFC557BD30F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6A23-DA28-4513-A127-D266C66EBE60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C036-8996-4DBB-A21A-1C726DD5CB3B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26C8-5233-4B13-A19B-4434DB199CDA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8ACE-36BD-40F4-816B-C3BBFF1105C5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4BE1-0CB5-4D93-AFB4-E328E9AED9F3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F106-73D3-40D9-8CBC-42C0A9AC8F39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7D16-8AE6-403D-A011-28796452035F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479E-FC81-443E-B21B-59328DBAEBA4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9F00-01B1-4669-AF02-2A96150FAF44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DEAF-A54F-480D-854B-4D2926A6D481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Dažas pazīmes var sakrist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Cilvēks kurš “šaudās” ar acīm, vainu melo vai ir vienkārši nervozs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Lai pilnvērtīgi saprastu, ko cilvēks jū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tev jāņem vērā sarunas kontekst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tiesībā nav likuma, kas katrai ķermeņa kustībai liktu sakrist ar kādu no emocijām, taču ir zināmas pazīmes, ko var saskatīt lielākajai cilvēku daļa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E3B5-A531-405A-82F8-01C9339A1885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Emocijas ir ķīmiska un nervu reakcija smadzenē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Izmantojot sejas izteiksmes, ķermeņa valodu, balss toni, netiešu un tiešu uzvedību, mēs sajūtam otra jūtas un neapzināti reaģējam ar mūsu pašu emocijām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am kā smiekli izplatās pa telpu un uzmundrina visus, kas tajā atroda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Emocijas veidojas  kombinācijā , ārējie  stimuli, subjektīvie pieredzes  stimuli, jebkāda uzvedība, rezultāts un mūsu iekšējā fizioloģiskā reakcija. Smaids, rokas pieskāriens, pārliecinoša balss, apskāviens -  visas šīs darbības var stimulēt emocijas. Klausoties vecās dziesmas var izraisīt emocijas, kas saistītas ar pagātni (piemēram, dejas ar vidusskolas mīļoto, vai turot savu jaundzimušo pirmo reizi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Emocijas ir ķīmiska un nervu reakcija smadzenē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Izmantojot sejas izteiksmes, ķermeņa valodu, balss tonis, netiešu un tiešu uzvedību, mēs sajūtam otra jūtas un neapzināti reaģējam ar mūsu pašu emocijām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am kā smiekli izplatās pa telpu un uzmundrina visus, kas tajā atroda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Kad mūsu saspringtās emocijas nespēj atrast pret ko izpausties, laimes sajūta samazinās, izmisums pastiprinās, depresija pastiprinās, dusmas aug un iekšējās emocionālās vajadzības ir nepiepildīta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300" spc="-1" strike="noStrike">
                <a:solidFill>
                  <a:srgbClr val="000000"/>
                </a:solidFill>
                <a:latin typeface="Calibri"/>
              </a:rPr>
              <a:t>Ņemot vērā to, ka emocijām ir bioķīmisks raksturs, tās ietekmē fizisko, garīgo un psihosociālo veselību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www.hhnmag.com/hhnmag_app/jsp/articledisplay.jsp?dcrpath=AHA/PubsNewsArticle/data/040518HHN_Online_Clark&amp;domain=HHNMA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893D-3F0F-4717-955D-3C0798C2D148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EA3-C25E-459A-8F5B-F3251BFFE665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Nosaukum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Ātri fakti un jēdzieni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29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Reaģējot un pacienta emocijā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ttp://www.mywhatever.com/cifwriter/library/eperc/fastfact/ff29.htm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utors(i)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Bruce Ambuel, PhD; David E. Weissman, MD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eklausies pacientā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Klausie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Nepārtrauc pacientu, kamēr viņš runā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acienti un ģimenes, kas saskārās ar </a:t>
            </a:r>
            <a:r>
              <a:rPr b="1" i="1" lang="lv-LV" sz="600" spc="-1" strike="noStrike">
                <a:solidFill>
                  <a:srgbClr val="000000"/>
                </a:solidFill>
                <a:latin typeface="Calibri"/>
              </a:rPr>
              <a:t>dzīves beigu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lēmumiem, vēlas iespēju izrunāt ar savu ārstu par to, ko viņi domā un jūt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eklausies sevī.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Ņem vērā pats savas emocij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avas skumj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dusm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nemier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bailes vai priek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bieži ir pirmais pierādījums, ka pacients vēlās izpaust svarīgu emocionālu ziņ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zvairieties no ātras emociju izrādīšanas. Kā piemēram, ja jūs pamanāt, ka kļūstat dusmīgs, neatklājat to pacienta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izmantojat savas dusmas kā mājienu, lai noskaidrotu vairāk par to, ko saka pacients.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tspoguļo domas, jūtas un uzvedīb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saka pacientam, ka tu klausies un tev viņš ir svarīg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ādā veidā dodot atļauju runāt par privātām, jūtīgām tēm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ļauj pacientam ieklausīties savās domā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augstinot tādā veidā viņu pašapziņ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ļauj pacientam apstiprināt, izlabot, papildināt to, ko Jūs saprotat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1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tspoguļot dom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Šī ir grūta izvēle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nevaru izlemt vai iet uz slimnīcu priekš nāves slimniekiem vai turpināt ar ķīmijterapij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Tev ir smaga izvēle starp </a:t>
            </a:r>
            <a:r>
              <a:rPr b="0" lang="lv-LV" sz="600" spc="-1" strike="noStrike">
                <a:solidFill>
                  <a:srgbClr val="cc0066"/>
                </a:solidFill>
                <a:latin typeface="Arial"/>
              </a:rPr>
              <a:t>slimnīcu nāves slimniekiem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un ķīmijterapij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"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2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tspoguļot emocij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Es jūtos nomākts un izmisi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Laikam esmu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sakau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Tu jau kādu laiku jūties nomākts un izmisi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.."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3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tspoguļot uzvedīb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cients sāk raudā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redzu, ka tu raudi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.."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pliecinājums un cieņa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cienti un ģimenes riskē, daloties ar savām emocij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pstiprini un atbalsti pacient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iemēri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ldies, ka dalījies ar savām jūtām un dom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Man ir prieks, ka tu runā ar mani par savām jūt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labāk daru savu darbu kā tavs ārsts, zinot kā tu jūties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pkopo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ārfrāzē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ārfrāzē pacienta stāstu saviem vārdie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900" spc="-1" strike="noStrike">
                <a:solidFill>
                  <a:srgbClr val="000000"/>
                </a:solidFill>
                <a:latin typeface="Arial"/>
              </a:rPr>
              <a:t>Pretēji atspoguļošanai, pārfrāzēšana un kopsavilkums ietver pacienta stāstījuma interpretāciju un sakoncentrēšanu . Efektīvs komentārs ir īss, bet tajā pat laikā saglabā svarīgo nozīmi un emociju.</a:t>
            </a:r>
            <a:r>
              <a:rPr b="0" lang="lv-LV" sz="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v-LV" sz="1300" spc="-1" strike="noStrike">
                <a:solidFill>
                  <a:srgbClr val="000000"/>
                </a:solidFill>
                <a:latin typeface="Arial"/>
              </a:rPr>
              <a:t>Mēs jau kādu laiku runājam par to, kā viss virzās uz priekš tev. Ļauj man apkopot to, ko tu esi teici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300" spc="-1" strike="noStrike">
                <a:solidFill>
                  <a:srgbClr val="000000"/>
                </a:solidFill>
                <a:latin typeface="Arial"/>
              </a:rPr>
              <a:t> tad tu man varēsi pateikt vai es esmu tevi sapratis pareizi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...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zveido plān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Dažkārt pacients vienkārši grib parunā par savām jūt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citreiz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darbība ir svarīgāk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Noskaidro ko pacients sagaida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Kā es varu palīdzē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Kam, ja tā ir, būtu jāmainās, tev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iedāvā tikšanās turpinājumus (atkārtotas vizītes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vēlētos tevi apraudzīt nākamajā nedēļā, paskatīties kā viss virzās uz priekšu. Tai pašā laikā, lūdzu, sazinies ar mani, ja tu vēlies parunāt pirms laika, labi?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A492-4054-46EB-B132-A495FD3C01F1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Ieklausies sevī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Ņem vērā pats savas emocij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Tavas skumj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dusm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nemi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bailes vai priek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bieži ir pirmais pierādījums, ka pacients vēlās izpaust svarīgu emocionālu ziņu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Izvairieties no ātras emociju izrādīšanas. Kā piemēram, ja jūs pamanāt, ka kļūstat dusmīgs, neatklājat to pacienta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mantojat savas dusmas kā mājienu, lai noskaidrotu vairāk par to, ko saka pac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FE5E-DA5B-4589-9643-64CCFD396A71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Atspoguļo domas, jūtas un uzvedīb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saka pacientam, ka tu klausies un tev viņš ir svarīg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ādā veidā dodot atļauju runāt par privātām, jūtīgām tēmām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ļauj pacientam ieklausīties savās domā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augstinot tādā veidā viņu pašapziņ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ļauj pacientam apstiprināt, izlabot, papildināt to, ko Jūs saprota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1: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Atspoguļot doma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Šī ir grūta izvēl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Es nevaru izlemt vai iet uz slimnīcu priekš nāves slimniekiem vai turpināt ar ķīmijterapij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Tev ir smaga izvēle starp </a:t>
            </a:r>
            <a:r>
              <a:rPr b="0" lang="lv-LV" sz="1100" spc="-1" strike="noStrike">
                <a:solidFill>
                  <a:srgbClr val="cc0066"/>
                </a:solidFill>
                <a:latin typeface="Arial"/>
              </a:rPr>
              <a:t>slimnīcu nāves slimniekiem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un ķīmijterapij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2: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Atspoguļot emocija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Es jūtos nomākts un izmisi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Laikam esmu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sakau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Tu jau kādu laiku jūties nomākts un izmisi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..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3: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Atspoguļot uzvedīb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cients sāk raudā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Es redzu, ka tu raudi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..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E291-C37E-41AC-A1B2-F0FCB9A55CE8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7417-4B8C-4C9C-9E7D-7E65DD82E771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</a:t>
            </a:r>
            <a:r>
              <a:rPr b="0" lang="lv-LV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ētījumi liecina, ka 60 līdz 70 procenti no tā, ko cilvēks vēlas teikts, ir atvasināts no neverbālās uzvedība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"[3]NB, p. 57-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bert Mehrabian, UCLA, 1967, “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oding of Inconsistent Communicatio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rard I. Nierenberg, 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Read a Person Like a Book.</a:t>
            </a:r>
            <a:r>
              <a:rPr b="0" i="1" lang="lv-LV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gesty otwartych rąk i nieskrzyżowanych ramion, delikatne poruszenia i pochylanie się ku drugiej osobie, mówiące ‘Jestem z tobą’, okazujące akceptację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zpięty płaszcz czy marynarka – eksponują serce (przepływ energii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olne i rozważne gest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ie z rękami opartymi na biodrach i rozstawionymi stopami (entuzjazm i dobre chę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ysunięcie ku przodowi gdy siedzisz na krześle – zainteresowa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eskrzyżowane ramiona lub nogi – jesteś otwarty na wszelkie sugesti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rzyżowane, mocno przyciśnięte do ciała ręce (w odróżnieniu od luźno złożonyc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ronne gesty – szybkie i nieuchwytne dla ok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kanie kontaktu wzrokowego i ustawienie ciała bok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espokojne ruchy – mogą oznaczać zniecierpliwienie lub zdenerw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obne ges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gesty dłońmi; powyżej szyi: uśmiech, kontakt wzrokowy, uniesione brwi – zainteresowanie; przy przypadkowym spotkaniu – szybkie spojrzenie i opuszczenie oczu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</a:t>
            </a: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fam ci. Nie obawiam się ciebie’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ydłużone spojrzenie wzmacnia pozytywny sygnał. </a:t>
            </a: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inienie głową pod konie naszej kwestii – oczekujemy odpowiedzi. mile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łysk rozpozn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marszczone brwi, unikanie kontaktu wzrokowego; twarz bez wyrazu (martwa ryb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r terminu iepazīstināja antropolo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dward T. Hall 1966.[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2952-5544-4980-A504-CFF93B3BBDFF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9C6-3B9F-46A9-9E52-8E08FE54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DA1-BF3E-420C-A607-A4F1BF81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195-8C37-4ECE-8EBE-85D8291E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C0A-DE54-4D4A-B22C-EA613C8C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1F9E-656B-46C3-943A-DABC7B13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DB86-B9A4-463C-A9B9-A3DB6F44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89AE-EBE0-49D6-8045-30F2C8F4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2DB0-5928-4363-915F-C017B694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BF46-6BB1-4759-81D3-D015FFC2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CA13-5A04-4D0A-9125-BC917EE5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CB69-4C29-4B78-8977-DCF65C74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1DA-9C5C-4596-84F2-826AFEF0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4812-79C1-4388-A6AB-F2903135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8CE4-198D-44B1-A9E7-6D36D8DF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62B0-B045-407A-93F6-DFA4EB31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822D-116F-4E28-A9CA-CA9E7A72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6973-17EA-4024-865E-C60CC566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5619-816D-4CB6-9DD1-FFDD92B4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D2B0-AA82-45FF-97F0-2D9DF19A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120D-5D75-48C1-A07E-A788C954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C46C-071D-4E18-B597-1EABDA5D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4BD5-1BA4-47A9-8717-7F7C2706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75E-E192-4B31-9D34-0F80672E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AE3E3-1430-4148-AD7F-22E73B80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2EBD-B6DC-4B49-B0EE-53EC831A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04F6-8CA5-49F3-80C9-C7F8A73F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2731-AEC0-452F-A358-CB1901C2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01CC-93B7-4EC5-B1EA-FA8AA837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022C-D3A2-4334-87A3-04E96D89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67A7-1321-49FF-AD4D-CE4BAB0F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D9017-5BFD-4FE9-AE14-A6B0D36F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C525-427C-41A9-8F03-421BE08E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D97EA-9E87-491B-84B4-76DED955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19D-7F43-46C9-B0A5-638B0E8E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5C70C-F8C2-454C-9DD7-331A45B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9571-BB14-4742-9072-185D79CE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019D7-A505-4202-B16A-DA8CE9C4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F48B5-2E31-48C0-B21D-06B72125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3AD34-EDAF-4867-A889-6F720EA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FB67B-0A03-4DDF-93BC-C642BA68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5029-1C17-479B-98B0-62A777F9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3CD8-A5C1-437B-8BFC-8C9243F1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6CF6C-60F1-44F4-A773-DB096B20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D82A8-682B-4A5E-9AA9-B8C701FA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8E2-2365-4EB7-880A-D388884F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D828B-8348-4CC2-ACCA-9FFC26E5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D4B1D-0622-41E4-8B72-FE32376B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82AA-7F8A-4D66-B4AC-84BBC732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10125-E70B-402D-AC68-13570130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933C-A9DB-4510-ADE8-36D44220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ABDE8-7F4D-4ABB-9301-1180E6EE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C9881-7293-4E22-A6B3-1C3DD29A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DDD7-9B58-48A3-99E3-A0B9D59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0AA1-8704-476E-9021-B7026D65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37959-3266-4EE1-B01B-87EA41D8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C43-A8F5-4157-B385-B8A0E40D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039F1-2B13-48DC-B32B-3B23147F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97BF1-37EA-42C5-A6AC-BA974092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4E87D-8340-4221-AD73-1F3BC10B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E17B6-B884-44A8-81D7-35FE792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1ED69-AA58-4553-8218-25044B05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8513-B4AF-45C7-A297-0A8D8123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EDD74-246B-4F2A-8355-52C01A3B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56A0-6525-4635-8E1A-837BDA5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BDB5-D64C-481F-8E0B-78A19F53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83E5-8A66-4127-8544-247C6DD3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FF4-B4CA-41C5-83E4-268FCE5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4ADC9-76F9-4AFE-A158-50C6192B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27792-98DC-4779-9406-44CC1E6D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E81E-3F96-4CB7-8430-5A59E8BD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CE9D5-A725-4482-BB9A-540151D5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9C81B-EE6A-4029-B632-5759EC4B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EE9F-5C75-43EE-B945-F653B096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45D6-0936-4B00-8020-EF005728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F6F6E-E706-4C30-B4A7-2A4258D3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76CCC-B82F-4FF3-B794-D7A3758A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584AB-5421-44C1-88FE-5A5F7C5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2E6-7D49-4579-A32A-5382FAA1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4DF6D-1CEF-4251-BD13-5106CC6B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E023F-69B6-4503-BD90-60734B0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CF47D-4D1B-495C-893D-2557D9DE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ABEA0-ED42-4236-B066-E0E58237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5DFA6-E4F7-4929-AFD3-ED7B2E24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E7139-0EBD-4143-9C95-58940694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ADAD6-1EED-49D1-85ED-0D2541F1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8040C-0945-46F3-884F-20F7D9FC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FB167-7EEE-49E9-9FF7-BC6C5655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909EE-03A6-4618-8735-76202CA8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6E5-A3E4-4C3A-B531-6B82C0AB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FC6E5-1352-47DB-83BB-A6C44F78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D3214-D4CE-4EE7-B76A-83545472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C604E-0AFF-400D-8334-EB247609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B600A-1F2D-4D70-AD3B-A69EE288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5C13D-E247-4D2A-92D2-9DD2EAC6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F56FC-BCC8-44AD-AC15-B95C5566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1F07A-CB1D-4726-8A5C-BB415B9E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7288-C90D-4C3E-9981-129E295E4F49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Łącznik prosty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6" name="Łącznik prosty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7" name="Trójkąt równoramienny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5" name="Prostokąt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6" name="Prostokąt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7" name="Prostokąt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30E1-0CAD-48A4-A14B-7E1A2E903A6C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0" name="Prostokąt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06E-5F75-4565-8103-3021BD25B276}" type="slidenum">
              <a:rPr b="0" lang="pl-P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Łącznik prosty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3" name="Łącznik prosty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4" name="Trójkąt równoramienny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5" name="Trójkąt równoramienny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5DB6-10D9-45FA-8F79-11CAC3E1E533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Łącznik prosty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78" name="Trójkąt równoramienny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D285-A18B-4307-B9EB-7CB996DC9C0D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Łącznik prosty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1" name="Łącznik prosty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2" name="Trójkąt równoramienny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5CAA-228D-46DC-A112-E41B361B7B60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Łącznik prosty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65" name="Trójkąt równoramienny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66" name="Prostokąt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448F-978C-4AC5-9CAF-64A77CEB5189}" type="slidenum">
              <a:rPr b="0" lang="pl-P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Łącznik prosty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09" name="Trójkąt równoramienny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0" name="Łącznik prosty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5879-8935-4E57-9243-04084057E601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BD05584_"/>
          <p:cNvPicPr/>
          <p:nvPr/>
        </p:nvPicPr>
        <p:blipFill>
          <a:blip r:embed="rId1"/>
          <a:stretch/>
        </p:blipFill>
        <p:spPr>
          <a:xfrm>
            <a:off x="4572000" y="22860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"/>
          <p:cNvSpPr/>
          <p:nvPr/>
        </p:nvSpPr>
        <p:spPr>
          <a:xfrm>
            <a:off x="304920" y="228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N</a:t>
            </a:r>
            <a:r>
              <a:rPr b="1" i="1" lang="en-US" sz="6600" spc="-1" strike="noStrike">
                <a:solidFill>
                  <a:srgbClr val="000000"/>
                </a:solidFill>
                <a:latin typeface="Stencil"/>
              </a:rPr>
              <a:t>E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VERB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L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66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OMUNI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KĀC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I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66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361" name="RAMPART.MP3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027"/>
          <p:cNvSpPr/>
          <p:nvPr/>
        </p:nvSpPr>
        <p:spPr>
          <a:xfrm>
            <a:off x="380880" y="2133720"/>
            <a:ext cx="8458200" cy="45727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cc0066"/>
                </a:solidFill>
                <a:latin typeface="Arial"/>
              </a:rPr>
              <a:t>3. 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Soci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ālā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telpa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(1,2m – 3,6m)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- kontaktēšanās ar paziņām vai cilvēkiem, kurus mēs pavisam nepazīsta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 kā piemēram santehniķis, pastnieks,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„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jauniņais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”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darbā vai skolā, utt.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07" name="Text Box 1028"/>
          <p:cNvSpPr/>
          <p:nvPr/>
        </p:nvSpPr>
        <p:spPr>
          <a:xfrm>
            <a:off x="1828800" y="380880"/>
            <a:ext cx="7010280" cy="173988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08" name="Object 1024" descr=""/>
          <p:cNvPicPr/>
          <p:nvPr/>
        </p:nvPicPr>
        <p:blipFill>
          <a:blip r:embed="rId1"/>
          <a:stretch/>
        </p:blipFill>
        <p:spPr>
          <a:xfrm>
            <a:off x="6956280" y="4419720"/>
            <a:ext cx="2187720" cy="219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Object 1025"/>
          <p:cNvGraphicFramePr/>
          <p:nvPr/>
        </p:nvGraphicFramePr>
        <p:xfrm>
          <a:off x="0" y="228600"/>
          <a:ext cx="175248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10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17524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Object 1024" descr=""/>
          <p:cNvPicPr/>
          <p:nvPr/>
        </p:nvPicPr>
        <p:blipFill>
          <a:blip r:embed="rId1"/>
          <a:stretch/>
        </p:blipFill>
        <p:spPr>
          <a:xfrm>
            <a:off x="0" y="0"/>
            <a:ext cx="1569960" cy="19350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28"/>
          <p:cNvSpPr/>
          <p:nvPr/>
        </p:nvSpPr>
        <p:spPr>
          <a:xfrm>
            <a:off x="1676520" y="380880"/>
            <a:ext cx="716256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13" name="Text Box 1029"/>
          <p:cNvSpPr/>
          <p:nvPr/>
        </p:nvSpPr>
        <p:spPr>
          <a:xfrm>
            <a:off x="304920" y="2209680"/>
            <a:ext cx="8534160" cy="46645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cc0066"/>
                </a:solidFill>
                <a:latin typeface="Arial"/>
              </a:rPr>
              <a:t>4. 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Publi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skā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telpa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virs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3,6m)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izmanto publiskām runām vai publiskiem pasākumie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graphicFrame>
        <p:nvGraphicFramePr>
          <p:cNvPr id="414" name="Object 1025"/>
          <p:cNvGraphicFramePr/>
          <p:nvPr/>
        </p:nvGraphicFramePr>
        <p:xfrm>
          <a:off x="7238880" y="4114800"/>
          <a:ext cx="155592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Object 10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114800"/>
                    <a:ext cx="15559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027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85800" y="2133720"/>
            <a:ext cx="3324240" cy="364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1024"/>
          <p:cNvGraphicFramePr/>
          <p:nvPr/>
        </p:nvGraphicFramePr>
        <p:xfrm>
          <a:off x="7010280" y="990720"/>
          <a:ext cx="18288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990720"/>
                    <a:ext cx="1828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1030"/>
          <p:cNvSpPr/>
          <p:nvPr/>
        </p:nvSpPr>
        <p:spPr>
          <a:xfrm>
            <a:off x="1857240" y="914400"/>
            <a:ext cx="538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L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i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e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c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 m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ani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 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mierā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! </a:t>
            </a:r>
            <a:endParaRPr b="0" lang="en-US" sz="36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(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slēgta attieksme, gatavs pretstāvēt agresijai</a:t>
            </a: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0" name="Text Box 1032"/>
          <p:cNvSpPr/>
          <p:nvPr/>
        </p:nvSpPr>
        <p:spPr>
          <a:xfrm>
            <a:off x="4114800" y="4648320"/>
            <a:ext cx="4778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Un kurš šeit ir pats svarīgākais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! </a:t>
            </a:r>
            <a:endParaRPr b="0" lang="en-US" sz="36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(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atvērts</a:t>
            </a: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, 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sirsnīga attieksme</a:t>
            </a: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,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 tomēr gatavs dominēt pār citiem)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1" name="Text Box 1033"/>
          <p:cNvSpPr/>
          <p:nvPr/>
        </p:nvSpPr>
        <p:spPr>
          <a:xfrm>
            <a:off x="228600" y="228600"/>
            <a:ext cx="585612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inestētika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lv-LV" sz="5400" spc="-1" strike="noStrike">
                <a:solidFill>
                  <a:srgbClr val="0000cc"/>
                </a:solidFill>
                <a:latin typeface="Arial"/>
              </a:rPr>
              <a:t>attieksme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i="1" lang="pl-PL" sz="4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2" name="AutoShape 1035"/>
          <p:cNvSpPr/>
          <p:nvPr/>
        </p:nvSpPr>
        <p:spPr>
          <a:xfrm>
            <a:off x="228600" y="5715000"/>
            <a:ext cx="1295280" cy="914400"/>
          </a:xfrm>
          <a:prstGeom prst="leftArrow">
            <a:avLst>
              <a:gd name="adj1" fmla="val 50000"/>
              <a:gd name="adj2" fmla="val 35413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b292ca"/>
                </a:solidFill>
                <a:uFillTx/>
                <a:latin typeface="Stencil"/>
                <a:hlinkClick r:id="rId4" action="ppaction://hlinksldjump"/>
              </a:rPr>
              <a:t>wstecz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3" name="AutoShape 1036"/>
          <p:cNvSpPr/>
          <p:nvPr/>
        </p:nvSpPr>
        <p:spPr>
          <a:xfrm>
            <a:off x="1752480" y="571500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b292ca"/>
                </a:solidFill>
                <a:uFillTx/>
                <a:latin typeface="Stencil"/>
                <a:hlinkClick r:id="rId5" action="ppaction://hlinksldjump"/>
              </a:rPr>
              <a:t>Dalej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5"/>
          <p:cNvSpPr/>
          <p:nvPr/>
        </p:nvSpPr>
        <p:spPr>
          <a:xfrm>
            <a:off x="0" y="304920"/>
            <a:ext cx="535788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inest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ētika</a:t>
            </a:r>
            <a:r>
              <a:rPr b="1" lang="pl-PL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lv-LV" sz="5400" spc="-1" strike="noStrike">
                <a:solidFill>
                  <a:srgbClr val="0000cc"/>
                </a:solidFill>
                <a:latin typeface="Arial"/>
              </a:rPr>
              <a:t>žesti</a:t>
            </a:r>
            <a:r>
              <a:rPr b="0" i="1" lang="pl-PL" sz="5400" spc="-1" strike="noStrike">
                <a:solidFill>
                  <a:srgbClr val="0000cc"/>
                </a:solidFill>
                <a:latin typeface="Arial"/>
              </a:rPr>
              <a:t> )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25" name="Picture 6" descr="BD05928_"/>
          <p:cNvPicPr/>
          <p:nvPr/>
        </p:nvPicPr>
        <p:blipFill>
          <a:blip r:embed="rId1"/>
          <a:stretch/>
        </p:blipFill>
        <p:spPr>
          <a:xfrm>
            <a:off x="3809880" y="4267080"/>
            <a:ext cx="1648080" cy="19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1024"/>
          <p:cNvGraphicFramePr/>
          <p:nvPr/>
        </p:nvGraphicFramePr>
        <p:xfrm>
          <a:off x="228600" y="1676520"/>
          <a:ext cx="1722600" cy="18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7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172260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025"/>
          <p:cNvGraphicFramePr/>
          <p:nvPr/>
        </p:nvGraphicFramePr>
        <p:xfrm>
          <a:off x="7467480" y="4343400"/>
          <a:ext cx="137160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9" name="Object 10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67480" y="4343400"/>
                    <a:ext cx="1371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026"/>
          <p:cNvGraphicFramePr/>
          <p:nvPr/>
        </p:nvGraphicFramePr>
        <p:xfrm>
          <a:off x="7162920" y="1676520"/>
          <a:ext cx="1751040" cy="182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1" name="Object 10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2920" y="1676520"/>
                    <a:ext cx="175104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1027"/>
          <p:cNvGraphicFramePr/>
          <p:nvPr/>
        </p:nvGraphicFramePr>
        <p:xfrm>
          <a:off x="5334120" y="228600"/>
          <a:ext cx="1981080" cy="1290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3" name="Object 10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4120" y="228600"/>
                    <a:ext cx="1981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Oval 15"/>
          <p:cNvSpPr/>
          <p:nvPr/>
        </p:nvSpPr>
        <p:spPr>
          <a:xfrm>
            <a:off x="2438280" y="1828800"/>
            <a:ext cx="4648320" cy="2362320"/>
          </a:xfrm>
          <a:prstGeom prst="ellipse">
            <a:avLst/>
          </a:prstGeom>
          <a:solidFill>
            <a:srgbClr val="6b5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Ko šie žesti nozīmē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Vai tu piekrīti 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 </a:t>
            </a: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šādam žestu 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skaidrojumam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Man nav ko slēp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?                                                                    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Uzvaras prieks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456720" y="6286680"/>
            <a:ext cx="47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Taisnība ir man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!                     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Tas nav iespējams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!  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5270040" y="144792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Tajā virzienā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0" y="304920"/>
            <a:ext cx="817236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inest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ētika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1" lang="lv-LV" sz="4800" spc="-1" strike="noStrike">
                <a:solidFill>
                  <a:srgbClr val="0000cc"/>
                </a:solidFill>
                <a:latin typeface="Arial"/>
              </a:rPr>
              <a:t>ar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lv-LV" sz="4800" spc="-1" strike="noStrike">
                <a:solidFill>
                  <a:srgbClr val="0000cc"/>
                </a:solidFill>
                <a:latin typeface="Arial"/>
              </a:rPr>
              <a:t>seju saistītie</a:t>
            </a:r>
            <a:r>
              <a:rPr b="1" lang="pl-PL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lv-LV" sz="4800" spc="-1" strike="noStrike">
                <a:solidFill>
                  <a:srgbClr val="0000cc"/>
                </a:solidFill>
                <a:latin typeface="Arial"/>
              </a:rPr>
              <a:t>žesti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graphicFrame>
        <p:nvGraphicFramePr>
          <p:cNvPr id="439" name="Object 1024"/>
          <p:cNvGraphicFramePr/>
          <p:nvPr/>
        </p:nvGraphicFramePr>
        <p:xfrm>
          <a:off x="2895480" y="3962520"/>
          <a:ext cx="1587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962520"/>
                    <a:ext cx="1587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1025"/>
          <p:cNvGraphicFramePr/>
          <p:nvPr/>
        </p:nvGraphicFramePr>
        <p:xfrm>
          <a:off x="6994440" y="3962520"/>
          <a:ext cx="17035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94440" y="3962520"/>
                    <a:ext cx="17035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3" name="Picture 8" descr="BD06094_"/>
          <p:cNvPicPr/>
          <p:nvPr/>
        </p:nvPicPr>
        <p:blipFill>
          <a:blip r:embed="rId5"/>
          <a:stretch/>
        </p:blipFill>
        <p:spPr>
          <a:xfrm>
            <a:off x="7238880" y="0"/>
            <a:ext cx="1489320" cy="167652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0"/>
          <p:cNvSpPr/>
          <p:nvPr/>
        </p:nvSpPr>
        <p:spPr>
          <a:xfrm>
            <a:off x="2895480" y="60958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Vīrieti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avē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rīdin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ņemot lēmumu vai 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Sieviet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izvērtē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intereses zudum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izvērtējot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52280" y="3048120"/>
            <a:ext cx="291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pēlējoties ar priekšmetiem tiek bloķēta sapratne.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iesedzot mutes signālus, kas liecina par piesardzību vai meliem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46" name="Picture 14" descr="BD06811_"/>
          <p:cNvPicPr/>
          <p:nvPr/>
        </p:nvPicPr>
        <p:blipFill>
          <a:blip r:embed="rId6"/>
          <a:stretch/>
        </p:blipFill>
        <p:spPr>
          <a:xfrm>
            <a:off x="457200" y="1143000"/>
            <a:ext cx="1343160" cy="1801800"/>
          </a:xfrm>
          <a:prstGeom prst="rect">
            <a:avLst/>
          </a:prstGeom>
          <a:ln w="0">
            <a:noFill/>
          </a:ln>
        </p:spPr>
      </p:pic>
      <p:sp>
        <p:nvSpPr>
          <p:cNvPr id="447" name="Oval 15"/>
          <p:cNvSpPr/>
          <p:nvPr/>
        </p:nvSpPr>
        <p:spPr>
          <a:xfrm>
            <a:off x="2857680" y="1285920"/>
            <a:ext cx="4647960" cy="2362320"/>
          </a:xfrm>
          <a:prstGeom prst="ellipse">
            <a:avLst/>
          </a:prstGeom>
          <a:solidFill>
            <a:srgbClr val="6b5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Ko nozīmē šie žesti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Vai tu piekrīti 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 </a:t>
            </a: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šādam žestu 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skaidrojumam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BD07798_"/>
          <p:cNvPicPr/>
          <p:nvPr/>
        </p:nvPicPr>
        <p:blipFill>
          <a:blip r:embed="rId1"/>
          <a:stretch/>
        </p:blipFill>
        <p:spPr>
          <a:xfrm>
            <a:off x="6754680" y="4191120"/>
            <a:ext cx="1965600" cy="22860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3"/>
          <p:cNvSpPr/>
          <p:nvPr/>
        </p:nvSpPr>
        <p:spPr>
          <a:xfrm>
            <a:off x="179280" y="457200"/>
            <a:ext cx="540072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inest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ētika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lv-LV" sz="5400" spc="-1" strike="noStrike">
                <a:solidFill>
                  <a:srgbClr val="0000cc"/>
                </a:solidFill>
                <a:latin typeface="Arial"/>
              </a:rPr>
              <a:t>plaukstas</a:t>
            </a:r>
            <a:r>
              <a:rPr b="0" i="1" lang="pl-PL" sz="5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i="1" lang="pl-PL" sz="4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graphicFrame>
        <p:nvGraphicFramePr>
          <p:cNvPr id="450" name="Object 1024"/>
          <p:cNvGraphicFramePr/>
          <p:nvPr/>
        </p:nvGraphicFramePr>
        <p:xfrm>
          <a:off x="3886200" y="4952880"/>
          <a:ext cx="2211480" cy="13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4952880"/>
                    <a:ext cx="22114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2" name="Picture 5" descr="BD06941_"/>
          <p:cNvPicPr/>
          <p:nvPr/>
        </p:nvPicPr>
        <p:blipFill>
          <a:blip r:embed="rId4"/>
          <a:stretch/>
        </p:blipFill>
        <p:spPr>
          <a:xfrm>
            <a:off x="5257800" y="0"/>
            <a:ext cx="1719360" cy="1808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BD06942_"/>
          <p:cNvPicPr/>
          <p:nvPr/>
        </p:nvPicPr>
        <p:blipFill>
          <a:blip r:embed="rId5"/>
          <a:stretch/>
        </p:blipFill>
        <p:spPr>
          <a:xfrm>
            <a:off x="7086600" y="533520"/>
            <a:ext cx="1719360" cy="18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4" name="Object 1025"/>
          <p:cNvGraphicFramePr/>
          <p:nvPr/>
        </p:nvGraphicFramePr>
        <p:xfrm>
          <a:off x="533520" y="2514600"/>
          <a:ext cx="181116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5" name="Object 10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2514600"/>
                    <a:ext cx="1811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Oval 15"/>
          <p:cNvSpPr/>
          <p:nvPr/>
        </p:nvSpPr>
        <p:spPr>
          <a:xfrm>
            <a:off x="2438280" y="1828800"/>
            <a:ext cx="4648320" cy="2362320"/>
          </a:xfrm>
          <a:prstGeom prst="ellipse">
            <a:avLst/>
          </a:prstGeom>
          <a:solidFill>
            <a:srgbClr val="6b5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Ko nozīmē šie žesti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Lūdzu izskaidrojiet tos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6357960" y="285840"/>
            <a:ext cx="235728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 </a:t>
            </a:r>
            <a:r>
              <a:rPr b="1" lang="pl-PL" sz="5400" spc="-1" strike="noStrike">
                <a:solidFill>
                  <a:srgbClr val="9fb8cd"/>
                </a:solidFill>
                <a:latin typeface="Arial Black"/>
              </a:rPr>
              <a:t>m</a:t>
            </a:r>
            <a:r>
              <a:rPr b="1" lang="lv-LV" sz="5400" spc="-1" strike="noStrike">
                <a:solidFill>
                  <a:srgbClr val="9fb8cd"/>
                </a:solidFill>
                <a:latin typeface="Arial Black"/>
              </a:rPr>
              <a:t>ī</a:t>
            </a:r>
            <a:r>
              <a:rPr b="1" lang="pl-PL" sz="5400" spc="-1" strike="noStrike">
                <a:solidFill>
                  <a:srgbClr val="9fb8cd"/>
                </a:solidFill>
                <a:latin typeface="Arial Black"/>
              </a:rPr>
              <a:t>mi</a:t>
            </a:r>
            <a:r>
              <a:rPr b="1" lang="lv-LV" sz="5400" spc="-1" strike="noStrike">
                <a:solidFill>
                  <a:srgbClr val="9fb8cd"/>
                </a:solidFill>
                <a:latin typeface="Arial Black"/>
              </a:rPr>
              <a:t>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878280" cy="4343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768840" cy="4343400"/>
          </a:xfrm>
          <a:prstGeom prst="rect">
            <a:avLst/>
          </a:prstGeom>
          <a:ln w="0">
            <a:noFill/>
          </a:ln>
        </p:spPr>
      </p:pic>
      <p:sp>
        <p:nvSpPr>
          <p:cNvPr id="460" name="pole tekstowe 8"/>
          <p:cNvSpPr/>
          <p:nvPr/>
        </p:nvSpPr>
        <p:spPr>
          <a:xfrm>
            <a:off x="2214720" y="4714920"/>
            <a:ext cx="2000160" cy="82512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PRIEK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61" name="pole tekstowe 9"/>
          <p:cNvSpPr/>
          <p:nvPr/>
        </p:nvSpPr>
        <p:spPr>
          <a:xfrm>
            <a:off x="6215040" y="5286240"/>
            <a:ext cx="2214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SKUMJA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657600" y="304920"/>
            <a:ext cx="52005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Ī</a:t>
            </a: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I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36800" cy="43052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3335040" cy="4343400"/>
          </a:xfrm>
          <a:prstGeom prst="rect">
            <a:avLst/>
          </a:prstGeom>
          <a:ln w="0">
            <a:noFill/>
          </a:ln>
        </p:spPr>
      </p:pic>
      <p:sp>
        <p:nvSpPr>
          <p:cNvPr id="465" name="pole tekstowe 8"/>
          <p:cNvSpPr/>
          <p:nvPr/>
        </p:nvSpPr>
        <p:spPr>
          <a:xfrm>
            <a:off x="2500200" y="4714920"/>
            <a:ext cx="1785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l-PL" sz="4800" spc="-1" strike="noStrike">
                <a:solidFill>
                  <a:srgbClr val="000000"/>
                </a:solidFill>
                <a:latin typeface="Stencil"/>
              </a:rPr>
              <a:t>A</a:t>
            </a: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ILE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66" name="pole tekstowe 9"/>
          <p:cNvSpPr/>
          <p:nvPr/>
        </p:nvSpPr>
        <p:spPr>
          <a:xfrm>
            <a:off x="6072120" y="5214960"/>
            <a:ext cx="24289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RIEBUM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6637320" y="357120"/>
            <a:ext cx="167292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Ī</a:t>
            </a: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I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875040" cy="4419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630600" cy="4419720"/>
          </a:xfrm>
          <a:prstGeom prst="rect">
            <a:avLst/>
          </a:prstGeom>
          <a:ln w="0">
            <a:noFill/>
          </a:ln>
        </p:spPr>
      </p:pic>
      <p:sp>
        <p:nvSpPr>
          <p:cNvPr id="470" name="pole tekstowe 4"/>
          <p:cNvSpPr/>
          <p:nvPr/>
        </p:nvSpPr>
        <p:spPr>
          <a:xfrm>
            <a:off x="1071720" y="5000760"/>
            <a:ext cx="3357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IZBRĪN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71" name="pole tekstowe 5"/>
          <p:cNvSpPr/>
          <p:nvPr/>
        </p:nvSpPr>
        <p:spPr>
          <a:xfrm>
            <a:off x="6084720" y="5357880"/>
            <a:ext cx="2487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DUSMA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464653"/>
                </a:solidFill>
                <a:latin typeface="Times New Roman"/>
              </a:rPr>
              <a:t>SASKAŅ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2193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ākt saskaņu var gadījumā, kad jūsu ķermenis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ss tonis un vārdi ir vienā ritmā, tas ir, vēsta vienu un to pašu informāciju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d jūs uztvers kā patiesu un uzticamu cilvēku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ākumu atslēga ir  PATIESA POZITĪVA ATTIEKSM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t cilvēku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026"/>
          <p:cNvSpPr/>
          <p:nvPr/>
        </p:nvSpPr>
        <p:spPr>
          <a:xfrm>
            <a:off x="1371600" y="304920"/>
            <a:ext cx="6629400" cy="119124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1" lang="pl-PL" sz="7200" spc="-1" strike="noStrike">
                <a:solidFill>
                  <a:srgbClr val="000000"/>
                </a:solidFill>
                <a:latin typeface="Arial Black"/>
              </a:rPr>
              <a:t>OMUNI</a:t>
            </a:r>
            <a:r>
              <a:rPr b="1" lang="lv-LV" sz="7200" spc="-1" strike="noStrike">
                <a:solidFill>
                  <a:srgbClr val="000000"/>
                </a:solidFill>
                <a:latin typeface="Arial Black"/>
              </a:rPr>
              <a:t>KĀCIJA</a:t>
            </a:r>
            <a:endParaRPr b="0" lang="en-US" sz="7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3" name="Text Box 1027"/>
          <p:cNvSpPr/>
          <p:nvPr/>
        </p:nvSpPr>
        <p:spPr>
          <a:xfrm>
            <a:off x="228600" y="2209680"/>
            <a:ext cx="967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6600"/>
                </a:solidFill>
                <a:latin typeface="Arial"/>
              </a:rPr>
              <a:t>VERB</a:t>
            </a:r>
            <a:r>
              <a:rPr b="0" lang="lv-LV" sz="4000" spc="-1" strike="noStrike">
                <a:solidFill>
                  <a:srgbClr val="0066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lv-LV" sz="4000" spc="-1" strike="noStrike">
                <a:solidFill>
                  <a:srgbClr val="0066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  </a:t>
            </a: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      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lv-LV" sz="4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VERB</a:t>
            </a:r>
            <a:r>
              <a:rPr b="0" lang="lv-LV" sz="40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lv-LV" sz="40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pl-PL" sz="4000" spc="-1" strike="noStrike">
                <a:solidFill>
                  <a:srgbClr val="cc00cc"/>
                </a:solidFill>
                <a:latin typeface="Arial"/>
              </a:rPr>
              <a:t>R</a:t>
            </a:r>
            <a:r>
              <a:rPr b="0" lang="lv-LV" sz="4000" spc="-1" strike="noStrike">
                <a:solidFill>
                  <a:srgbClr val="cc00cc"/>
                </a:solidFill>
                <a:latin typeface="Arial"/>
              </a:rPr>
              <a:t>AKS</a:t>
            </a:r>
            <a:r>
              <a:rPr b="0" lang="pl-PL" sz="4000" spc="-1" strike="noStrike">
                <a:solidFill>
                  <a:srgbClr val="cc00cc"/>
                </a:solidFill>
                <a:latin typeface="Arial"/>
              </a:rPr>
              <a:t>T</a:t>
            </a:r>
            <a:r>
              <a:rPr b="0" lang="lv-LV" sz="4000" spc="-1" strike="noStrike">
                <a:solidFill>
                  <a:srgbClr val="cc00cc"/>
                </a:solidFill>
                <a:latin typeface="Arial"/>
              </a:rPr>
              <a:t>ISKĀ</a:t>
            </a:r>
            <a:r>
              <a:rPr b="0" lang="pl-PL" sz="4000" spc="-1" strike="noStrike">
                <a:solidFill>
                  <a:srgbClr val="ff3300"/>
                </a:solidFill>
                <a:latin typeface="Stencil"/>
              </a:rPr>
              <a:t>	</a:t>
            </a:r>
            <a:r>
              <a:rPr b="0" lang="lv-LV" sz="4000" spc="-1" strike="noStrike">
                <a:solidFill>
                  <a:srgbClr val="ff3300"/>
                </a:solidFill>
                <a:latin typeface="Stencil"/>
              </a:rPr>
              <a:t>             </a:t>
            </a:r>
            <a:r>
              <a:rPr b="0" lang="lv-LV" sz="4000" spc="-1" strike="noStrike">
                <a:solidFill>
                  <a:srgbClr val="996600"/>
                </a:solidFill>
                <a:latin typeface="Arial"/>
              </a:rPr>
              <a:t>CITA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3300"/>
                </a:solidFill>
                <a:latin typeface="Stencil"/>
              </a:rPr>
              <a:t> </a:t>
            </a:r>
            <a:r>
              <a:rPr b="0" lang="pl-PL" sz="4000" spc="-1" strike="noStrike">
                <a:solidFill>
                  <a:srgbClr val="006600"/>
                </a:solidFill>
                <a:latin typeface="Arial Black"/>
              </a:rPr>
              <a:t>(</a:t>
            </a:r>
            <a:r>
              <a:rPr b="0" lang="lv-LV" sz="4000" spc="-1" strike="noStrike">
                <a:solidFill>
                  <a:srgbClr val="006600"/>
                </a:solidFill>
                <a:latin typeface="Arial Black"/>
              </a:rPr>
              <a:t>runa</a:t>
            </a:r>
            <a:r>
              <a:rPr b="0" lang="pl-PL" sz="4000" spc="-1" strike="noStrike">
                <a:solidFill>
                  <a:srgbClr val="006600"/>
                </a:solidFill>
                <a:latin typeface="Arial Black"/>
              </a:rPr>
              <a:t>)</a:t>
            </a: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( </a:t>
            </a:r>
            <a:r>
              <a:rPr b="0" lang="lv-LV" sz="4000" spc="-1" strike="noStrike">
                <a:solidFill>
                  <a:srgbClr val="ff3300"/>
                </a:solidFill>
                <a:latin typeface="Arial Black"/>
              </a:rPr>
              <a:t>žesti</a:t>
            </a: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, </a:t>
            </a:r>
            <a:r>
              <a:rPr b="0" lang="lv-LV" sz="4000" spc="-1" strike="noStrike">
                <a:solidFill>
                  <a:srgbClr val="ff3300"/>
                </a:solidFill>
                <a:latin typeface="Arial Black"/>
              </a:rPr>
              <a:t>mīmika</a:t>
            </a: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, </a:t>
            </a:r>
            <a:r>
              <a:rPr b="0" lang="lv-LV" sz="4000" spc="-1" strike="noStrike">
                <a:solidFill>
                  <a:srgbClr val="ff3300"/>
                </a:solidFill>
                <a:latin typeface="Arial Black"/>
              </a:rPr>
              <a:t>kustības)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 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(gra</a:t>
            </a:r>
            <a:r>
              <a:rPr b="0" lang="lv-LV" sz="4000" spc="-1" strike="noStrike">
                <a:solidFill>
                  <a:srgbClr val="996600"/>
                </a:solidFill>
                <a:latin typeface="Arial Black"/>
              </a:rPr>
              <a:t>fiki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 </a:t>
            </a:r>
            <a:r>
              <a:rPr b="0" lang="lv-LV" sz="4000" spc="-1" strike="noStrike">
                <a:solidFill>
                  <a:srgbClr val="996600"/>
                </a:solidFill>
                <a:latin typeface="Arial Black"/>
              </a:rPr>
              <a:t>un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 </a:t>
            </a:r>
            <a:r>
              <a:rPr b="0" lang="lv-LV" sz="4000" spc="-1" strike="noStrike">
                <a:solidFill>
                  <a:srgbClr val="996600"/>
                </a:solidFill>
                <a:latin typeface="Arial Black"/>
              </a:rPr>
              <a:t>skaņas simboli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4" name="Line 1028"/>
          <p:cNvSpPr/>
          <p:nvPr/>
        </p:nvSpPr>
        <p:spPr>
          <a:xfrm>
            <a:off x="914400" y="26668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8077320" y="2819520"/>
            <a:ext cx="0" cy="2361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6" name="Line 1036"/>
          <p:cNvSpPr/>
          <p:nvPr/>
        </p:nvSpPr>
        <p:spPr>
          <a:xfrm flipH="1">
            <a:off x="3809880" y="137160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7" name="Line 1037"/>
          <p:cNvSpPr/>
          <p:nvPr/>
        </p:nvSpPr>
        <p:spPr>
          <a:xfrm>
            <a:off x="5486400" y="1371600"/>
            <a:ext cx="9907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8" name="Line 1038"/>
          <p:cNvSpPr/>
          <p:nvPr/>
        </p:nvSpPr>
        <p:spPr>
          <a:xfrm>
            <a:off x="6629400" y="1371600"/>
            <a:ext cx="14479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9" name="Line 1044"/>
          <p:cNvSpPr/>
          <p:nvPr/>
        </p:nvSpPr>
        <p:spPr>
          <a:xfrm flipH="1">
            <a:off x="1142640" y="1295280"/>
            <a:ext cx="1600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70" name="Line 1045"/>
          <p:cNvSpPr/>
          <p:nvPr/>
        </p:nvSpPr>
        <p:spPr>
          <a:xfrm>
            <a:off x="4038480" y="2743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464653"/>
                </a:solidFill>
                <a:latin typeface="Times New Roman"/>
              </a:rPr>
              <a:t>DARBĪBA</a:t>
            </a:r>
            <a:r>
              <a:rPr b="1" lang="pl-PL" sz="4000" spc="-1" strike="noStrike">
                <a:solidFill>
                  <a:srgbClr val="46465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85800" y="134136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Pasaki doto vārdu būdams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mīg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garlaikoj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brīnīji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rtēj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Ir vēl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“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Man pietie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“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Paskaties uz man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 tu esi dzimi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464653"/>
                </a:solidFill>
                <a:latin typeface="Times New Roman"/>
              </a:rPr>
              <a:t>DARBĪBA</a:t>
            </a:r>
            <a:r>
              <a:rPr b="1" lang="pl-PL" sz="3600" spc="-1" strike="noStrike">
                <a:solidFill>
                  <a:srgbClr val="464653"/>
                </a:solidFill>
                <a:latin typeface="Times New Roman"/>
              </a:rPr>
              <a:t> (cd.)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2876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auj citam cilvēkam noklausīties apgalvojumus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auj viņam/viņai uzminēt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 no četrām emocijām tu izmantoji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viņam/viņai nav skaidrs, mēģini vēl un vēl, līdz viņam/viņai nebūs nekādu šaubu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laim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laimīg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laimīg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audz smaid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ēs pat varētu pamanīt nelielu lēcienu, kad viņš staig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atbrīvo sejas muskuļus un veic peldošas kustīb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ungo vai dzied pie sev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atvērtā ķermeņa poza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emier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nemierīg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emier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bāls un ar sausām lūpā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āk svīs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ļoti nervozs un strauji kustina ac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krata kāju vai sit ar pēdu pa zem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zdara straujas kustības, būdams kādu laiku mierīg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tostā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dusm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dusmīg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24000" y="19159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dusm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it dūri pret galdu un skaļi run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žmiedz roku dūrē un, runājot ar cilvēku, liecas uz viņa pus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kož zobus un šņāc/rūc runājo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sasprindzinājis muskuļu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skumi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noskumis/-usi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skumis, viņš (viņam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būs trīcošas lūp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espēs paskatīties tieši tev acīs un dažreiz ir saredzamas asar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i="1" lang="lv-LV" sz="2600" spc="-1" strike="noStrike">
                <a:solidFill>
                  <a:srgbClr val="000000"/>
                </a:solidFill>
                <a:latin typeface="Arial"/>
              </a:rPr>
              <a:t>nošļucis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ķermen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ir zems, vārgs balss ton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rīs lūpas (trīsas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runā bez intonācijas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asar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 flipV="1">
            <a:off x="228600" y="307800"/>
            <a:ext cx="49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lvēka</a:t>
            </a: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ķermeņa valoda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vecākā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visuzticamākā un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univers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ālākā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valoda pasaulē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28600" y="3886200"/>
            <a:ext cx="441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ās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saprašanās pamatā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jūtas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attieksme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gaidas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373" name="Picture 9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63708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75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325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825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izbrīnī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izbrīnīt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izbrīnīts, viņš (viņam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ēkšņi atver mut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ādējādi rādot emocij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‘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an atkārās žokl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'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ēkšņi atkāpj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laši atver acis vai pieliek roku priekšā mute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paceltas uzacis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bijies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viņam ir bai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nobijies/-usies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 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bijies, baidās, viņš (viņam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bāl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vīst, ir sausa mu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ainīgs balss ton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sasprindzināti muskuļ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elpošanas spazmas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ažas pazīmes var sakris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64653"/>
                </a:solidFill>
                <a:latin typeface="Arial"/>
              </a:rPr>
              <a:t>Cilvēks kurš “šaudās” ar acīm, vainu melo vai ir vienkārši nervoz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; 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Lai pilnvērtīgi saprastu, ko cilvēks jū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tev jāņem vērā sarunas konteksts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aļa no ķermeņa lasīšanas spējas ir pieredze, daļa ir izjūt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64653"/>
                </a:solidFill>
                <a:latin typeface="Arial"/>
              </a:rPr>
              <a:t>Kāpēc pacientu emocijas ir svarīgas?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Emocijas ir ķīmiska un nervu reakcija smadzenē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Izmantojot sejas izteiksmes, ķermeņa valodu, balss toni, netiešu un tiešu uzvedību, mēs sajūtam otra jūtas un neapzināti reaģējam ar mūsu pašu emocijā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piemēram kā smiekli izplatās pa telpu un uzmundrina visus, kas tajā atrodas</a:t>
            </a:r>
            <a:r>
              <a:rPr b="0" lang="lv-LV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pēc pacientu emocijas ir svarīgas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d mūsu saspringtās emocijas nespēj atrast pret ko izpausties, laimes sajūta samazinās, izmisums pastiprinās, depresija pastiprinās, dusmas aug un iekšējās emocionālās vajadzības ir nepiepildīt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Ņemot vērā to, ka emocijām ir bioķīmisks raksturs, tās ietekmē fizisko, garīgo un psihosociālo veselīb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http://www.hhnmag.com/hhnmag_app/jsp/articledisplay.jsp „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eating the Patient's Emotions</a:t>
            </a: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” b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 Paul Alexander Cla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klausies pacientā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Klausie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Nepārtrauc pacientu, kamēr viņš runā</a:t>
            </a:r>
            <a:r>
              <a:rPr b="0" lang="en-US" sz="2300" spc="-1" strike="noStrike">
                <a:solidFill>
                  <a:srgbClr val="464653"/>
                </a:solidFill>
                <a:latin typeface="Arial"/>
                <a:ea typeface="Arial"/>
              </a:rPr>
              <a:t>.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Pacienti un ģimenes, kas saskaras ar </a:t>
            </a:r>
            <a:r>
              <a:rPr b="1" i="1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dzīves beigu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 lēmumiem, vēlas iespēju izrunāt ar savu ārstu par to, ko viņi domā un jūt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23" name="Prostokąt 3"/>
          <p:cNvSpPr/>
          <p:nvPr/>
        </p:nvSpPr>
        <p:spPr>
          <a:xfrm>
            <a:off x="285840" y="571500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b8cd"/>
                </a:solidFill>
                <a:latin typeface="Stencil"/>
              </a:rPr>
              <a:t>Title: Fast Fact and Concept #29: Responding to patient emotions</a:t>
            </a:r>
            <a:endParaRPr b="0" lang="en-US" sz="18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b8cd"/>
                </a:solidFill>
                <a:latin typeface="Stencil"/>
              </a:rPr>
              <a:t>Author(s): Bruce Ambuel, PhD; David E. Weissman, MD</a:t>
            </a:r>
            <a:endParaRPr b="0" lang="en-US" sz="1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klausies sevī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Ņem vērā pats savas emocij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Tavas skumja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 dusma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 nemier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bailes vai priek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bieži ir pirmais pierādījums, ka pacients vēlas izpaust svarīgu emocionālu ziņ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i="1" lang="lv-LV" sz="2400" spc="-1" strike="noStrike">
                <a:solidFill>
                  <a:srgbClr val="464653"/>
                </a:solidFill>
                <a:latin typeface="Arial"/>
              </a:rPr>
              <a:t>Izvairieties no ātras emociju izrādīšanas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tspoguļo domas, jūtas un uzvedīb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Atspoguļojum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asaka pacientam, ka tu klausies un tev viņš ir svarīg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tādā veidā dodot atļauju runāt par privātām, jūtīgām tēmā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ļauj pacientam ieklausīties savās domā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aaugstinot tādā veidā viņa pašapziņ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ļauj pacientam apstiprināt, izlabot, papildināt to, ko Jūs saprotat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ĶERMEŅA VALO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75" name="Group 22"/>
          <p:cNvGrpSpPr/>
          <p:nvPr/>
        </p:nvGrpSpPr>
        <p:grpSpPr>
          <a:xfrm>
            <a:off x="838080" y="2057400"/>
            <a:ext cx="3276360" cy="3428640"/>
            <a:chOff x="838080" y="2057400"/>
            <a:chExt cx="3276360" cy="3428640"/>
          </a:xfrm>
        </p:grpSpPr>
        <p:grpSp>
          <p:nvGrpSpPr>
            <p:cNvPr id="376" name="Group 18"/>
            <p:cNvGrpSpPr/>
            <p:nvPr/>
          </p:nvGrpSpPr>
          <p:grpSpPr>
            <a:xfrm>
              <a:off x="838080" y="2057400"/>
              <a:ext cx="3276360" cy="3428640"/>
              <a:chOff x="838080" y="2057400"/>
              <a:chExt cx="3276360" cy="3428640"/>
            </a:xfrm>
          </p:grpSpPr>
          <p:sp>
            <p:nvSpPr>
              <p:cNvPr id="377" name="Oval 14"/>
              <p:cNvSpPr/>
              <p:nvPr/>
            </p:nvSpPr>
            <p:spPr>
              <a:xfrm>
                <a:off x="838080" y="2057400"/>
                <a:ext cx="3276360" cy="3428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  <p:sp>
            <p:nvSpPr>
              <p:cNvPr id="378" name="Line 15"/>
              <p:cNvSpPr/>
              <p:nvPr/>
            </p:nvSpPr>
            <p:spPr>
              <a:xfrm flipV="1">
                <a:off x="2476440" y="2064960"/>
                <a:ext cx="0" cy="178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  <p:sp>
            <p:nvSpPr>
              <p:cNvPr id="379" name="Line 16"/>
              <p:cNvSpPr/>
              <p:nvPr/>
            </p:nvSpPr>
            <p:spPr>
              <a:xfrm flipV="1">
                <a:off x="2476440" y="2363040"/>
                <a:ext cx="893520" cy="149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  <p:sp>
            <p:nvSpPr>
              <p:cNvPr id="380" name="Line 17"/>
              <p:cNvSpPr/>
              <p:nvPr/>
            </p:nvSpPr>
            <p:spPr>
              <a:xfrm>
                <a:off x="2476440" y="3854160"/>
                <a:ext cx="1042200" cy="119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</p:grpSp>
        <p:sp>
          <p:nvSpPr>
            <p:cNvPr id="381" name="Text Box 19"/>
            <p:cNvSpPr/>
            <p:nvPr/>
          </p:nvSpPr>
          <p:spPr>
            <a:xfrm>
              <a:off x="2590560" y="251460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Stencil"/>
                </a:rPr>
                <a:t>7%</a:t>
              </a:r>
              <a:endParaRPr b="0" lang="en-US" sz="2800" spc="-1" strike="noStrike">
                <a:solidFill>
                  <a:srgbClr val="9fb8cd"/>
                </a:solidFill>
                <a:latin typeface="Stencil"/>
              </a:endParaRPr>
            </a:p>
          </p:txBody>
        </p:sp>
        <p:sp>
          <p:nvSpPr>
            <p:cNvPr id="382" name="Text Box 20"/>
            <p:cNvSpPr/>
            <p:nvPr/>
          </p:nvSpPr>
          <p:spPr>
            <a:xfrm>
              <a:off x="3200400" y="35049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Stencil"/>
                </a:rPr>
                <a:t>38%</a:t>
              </a:r>
              <a:endParaRPr b="0" lang="en-US" sz="2800" spc="-1" strike="noStrike">
                <a:solidFill>
                  <a:srgbClr val="9fb8cd"/>
                </a:solidFill>
                <a:latin typeface="Stencil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1218960" y="3504960"/>
              <a:ext cx="781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Stencil"/>
                </a:rPr>
                <a:t>55%</a:t>
              </a:r>
              <a:endParaRPr b="0" lang="en-US" sz="2800" spc="-1" strike="noStrike">
                <a:solidFill>
                  <a:srgbClr val="9fb8cd"/>
                </a:solidFill>
                <a:latin typeface="Stencil"/>
              </a:endParaRPr>
            </a:p>
          </p:txBody>
        </p:sp>
      </p:grpSp>
      <p:sp>
        <p:nvSpPr>
          <p:cNvPr id="384" name="Text Box 23"/>
          <p:cNvSpPr/>
          <p:nvPr/>
        </p:nvSpPr>
        <p:spPr>
          <a:xfrm>
            <a:off x="4495680" y="2743200"/>
            <a:ext cx="42674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ĶERMEŅA VALODA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55%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BALSS TONIS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8%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VĀ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D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7%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Piemērs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#1: </a:t>
            </a: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Atspoguļot domas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Šī ir grūta izvēl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Es nevaru izlemt vai iet uz slimnīcu neizdziedināmiem slimniekiem vai turpināt  ķīmijterapij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"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Tev ir smaga izvēle starp slimnīcu neizdziedināmiem slimniekiem un ķīmijterapij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"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Piemērs</a:t>
            </a: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 #2: </a:t>
            </a: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Atspoguļojot emocij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Es jūtos nomākts un izmis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Laikam esmu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kau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"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Tu jau kādu laiku jūties nomākts un izmis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"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Piemērs</a:t>
            </a: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 #3: </a:t>
            </a: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Atspoguļojot uzvedīb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cients sāk raudā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Es redzu, ka tu raud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"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r>
              <a:rPr b="0" lang="pl-PL" sz="3300" spc="-1" strike="noStrike">
                <a:solidFill>
                  <a:srgbClr val="464653"/>
                </a:solidFill>
                <a:latin typeface="Bookman Old Style"/>
              </a:rPr>
              <a:t> – </a:t>
            </a:r>
            <a:r>
              <a:rPr b="0" lang="pl-PL" sz="3300" spc="-1" strike="noStrike">
                <a:solidFill>
                  <a:srgbClr val="cc0066"/>
                </a:solidFill>
                <a:latin typeface="Bookman Old Style"/>
              </a:rPr>
              <a:t>cd.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99680" y="1856880"/>
            <a:ext cx="8358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pliecinājums un cieņ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acienti un ģimenes riskē, daloties ar savām emocijā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apstiprini un atbalsti pacient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iemēr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ldies, ka dalījies ar savām jūtām un domā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an ir prieks, ka tu runā ar mani par savām jūtā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Es labāk daru savu darbu kā tavs ārsts, zinot kā tu jū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Līdzjūtīga ziņkā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Esi ziņkārīgs un pieprasi vēl informācij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: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Es gribētu zināt vairāk par šo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..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Lūdzu, pastāsti vairāk par bēdām, ko jūti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57120" y="19810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pkop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ārfrāzē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ārfrāzē pacienta stāstu saviem vārdie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464653"/>
                </a:solidFill>
                <a:latin typeface="Arial"/>
              </a:rPr>
              <a:t>Pretēji atspoguļošanai, pārfrāzēšana un kopsavilkums ietver pacienta stāstījuma interpretāciju un sakoncentrēšanu . Efektīvs komentārs ir īss, bet tajā pat laikā saglabā svarīgo nozīmi un emociju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Gill Sans MT"/>
              </a:rPr>
              <a:t>„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ēs jau kādu laiku runājam par to, kā viss virzās uz priekš tev. Ļauj man apkopot to, ko tu esi teici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tad tu man varēsi pateikt vai es esmu tevi sapratis pareiz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...</a:t>
            </a:r>
            <a:r>
              <a:rPr b="0" lang="pl-PL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zveido plān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Dažkārt pacients vienkārši grib parunāt par savām jūtā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citreiz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darbība ir svarīgāka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Noskaidro, ko pacients sagaid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Kā es varu palīdzēt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?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Kam, ja tā ir, būtu jāmainās, tev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?</a:t>
            </a: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”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8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iedāvā tikšanās turpinājumus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atkārtotas vizītes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Es vēlētos tevi apraudzīt nākamajā nedēļā, paskatīties kā viss virzās uz priekšu. Tai pašā laikā, lūdzu, sazinies ar mani, ja tu vēlies parunāt ātrāk, labi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029"/>
          <p:cNvSpPr/>
          <p:nvPr/>
        </p:nvSpPr>
        <p:spPr>
          <a:xfrm>
            <a:off x="2436840" y="2209680"/>
            <a:ext cx="562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NEVERBĀLĀS KOMUNIKĀCIJAS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TIPI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6" name="AutoShape 1033"/>
          <p:cNvSpPr/>
          <p:nvPr/>
        </p:nvSpPr>
        <p:spPr>
          <a:xfrm>
            <a:off x="7010280" y="1071720"/>
            <a:ext cx="2133720" cy="761760"/>
          </a:xfrm>
          <a:prstGeom prst="wedgeRoundRectCallout">
            <a:avLst>
              <a:gd name="adj1" fmla="val -87944"/>
              <a:gd name="adj2" fmla="val 9812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Izskats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7" name="AutoShape 1036"/>
          <p:cNvSpPr/>
          <p:nvPr/>
        </p:nvSpPr>
        <p:spPr>
          <a:xfrm>
            <a:off x="5643720" y="285840"/>
            <a:ext cx="1752480" cy="761760"/>
          </a:xfrm>
          <a:prstGeom prst="wedgeRoundRectCallout">
            <a:avLst>
              <a:gd name="adj1" fmla="val -84509"/>
              <a:gd name="adj2" fmla="val 152083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Kā tu sakārto savu apkārtni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8" name="AutoShape 1037"/>
          <p:cNvSpPr/>
          <p:nvPr/>
        </p:nvSpPr>
        <p:spPr>
          <a:xfrm>
            <a:off x="3124080" y="304920"/>
            <a:ext cx="1600200" cy="761760"/>
          </a:xfrm>
          <a:prstGeom prst="wedgeRoundRectCallout">
            <a:avLst>
              <a:gd name="adj1" fmla="val 13097"/>
              <a:gd name="adj2" fmla="val 168541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fb8cd"/>
                </a:solidFill>
                <a:latin typeface="Times New Roman"/>
              </a:rPr>
              <a:t>  </a:t>
            </a:r>
            <a:r>
              <a:rPr b="1" lang="lv-LV" sz="2400" spc="-1" strike="noStrike">
                <a:solidFill>
                  <a:srgbClr val="0000cc"/>
                </a:solidFill>
                <a:latin typeface="Times New Roman"/>
              </a:rPr>
              <a:t>Pieskārieni</a:t>
            </a: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9" name="AutoShape 1038"/>
          <p:cNvSpPr/>
          <p:nvPr/>
        </p:nvSpPr>
        <p:spPr>
          <a:xfrm>
            <a:off x="304920" y="457200"/>
            <a:ext cx="2361960" cy="990720"/>
          </a:xfrm>
          <a:prstGeom prst="wedgeRoundRectCallout">
            <a:avLst>
              <a:gd name="adj1" fmla="val 67740"/>
              <a:gd name="adj2" fmla="val 14118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Skaņas, izņemot vārdus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0" name="AutoShape 1039"/>
          <p:cNvSpPr/>
          <p:nvPr/>
        </p:nvSpPr>
        <p:spPr>
          <a:xfrm>
            <a:off x="228600" y="2514600"/>
            <a:ext cx="1371600" cy="990720"/>
          </a:xfrm>
          <a:prstGeom prst="wedgeRoundRectCallout">
            <a:avLst>
              <a:gd name="adj1" fmla="val 129166"/>
              <a:gd name="adj2" fmla="val 1233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Ķermeņa stāja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1" name="AutoShape 1040"/>
          <p:cNvSpPr/>
          <p:nvPr/>
        </p:nvSpPr>
        <p:spPr>
          <a:xfrm>
            <a:off x="380880" y="4419720"/>
            <a:ext cx="1524240" cy="914400"/>
          </a:xfrm>
          <a:prstGeom prst="wedgeRoundRectCallout">
            <a:avLst>
              <a:gd name="adj1" fmla="val 127499"/>
              <a:gd name="adj2" fmla="val -10746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fb8cd"/>
                </a:solidFill>
                <a:latin typeface="Times New Roman"/>
              </a:rPr>
              <a:t>    </a:t>
            </a: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Žesti</a:t>
            </a: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2" name="AutoShape 1041"/>
          <p:cNvSpPr/>
          <p:nvPr/>
        </p:nvSpPr>
        <p:spPr>
          <a:xfrm>
            <a:off x="2057400" y="5410080"/>
            <a:ext cx="1600200" cy="838440"/>
          </a:xfrm>
          <a:prstGeom prst="wedgeRoundRectCallout">
            <a:avLst>
              <a:gd name="adj1" fmla="val 76189"/>
              <a:gd name="adj2" fmla="val -18087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fb8cd"/>
                </a:solidFill>
                <a:latin typeface="Times New Roman"/>
              </a:rPr>
              <a:t>    </a:t>
            </a: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Mīmika</a:t>
            </a: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3" name="AutoShape 1042"/>
          <p:cNvSpPr/>
          <p:nvPr/>
        </p:nvSpPr>
        <p:spPr>
          <a:xfrm>
            <a:off x="5105520" y="5638680"/>
            <a:ext cx="1752480" cy="762120"/>
          </a:xfrm>
          <a:prstGeom prst="wedgeRoundRectCallout">
            <a:avLst>
              <a:gd name="adj1" fmla="val -73643"/>
              <a:gd name="adj2" fmla="val -25041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Balss tonis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4" name="AutoShape 1043"/>
          <p:cNvSpPr/>
          <p:nvPr/>
        </p:nvSpPr>
        <p:spPr>
          <a:xfrm>
            <a:off x="6553080" y="4267080"/>
            <a:ext cx="2362320" cy="990720"/>
          </a:xfrm>
          <a:prstGeom prst="wedgeRoundRectCallout">
            <a:avLst>
              <a:gd name="adj1" fmla="val -80643"/>
              <a:gd name="adj2" fmla="val -7612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Attālums no citiem cilvēkiem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71760" y="1500120"/>
            <a:ext cx="7162560" cy="338580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– 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ir pētījums par izmērāmu attālumu starp cilvēkiem, kad tie mijiedarbojas</a:t>
            </a:r>
            <a:r>
              <a:rPr b="1" i="1" lang="pl-PL" sz="48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1743120" y="614520"/>
            <a:ext cx="5657760" cy="5628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00160" y="152280"/>
            <a:ext cx="6686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PRO</a:t>
            </a:r>
            <a:r>
              <a:rPr b="0" lang="lv-LV" sz="3200" spc="-1" strike="noStrike">
                <a:solidFill>
                  <a:srgbClr val="464653"/>
                </a:solidFill>
                <a:latin typeface="Bookman Old Style"/>
              </a:rPr>
              <a:t>KSĒMIK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īms attālums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 - apskāvieni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pieskārieniem vai čuksti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Vissvarīgākai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 s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trik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aizsargāt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Tiek pielaisti tikai tie ar kuriem mēs esam emocionāli saistī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 piemēram, vecāki,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laulātai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bērn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 tuvi draug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vecvecāki, u.c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24" descr="BD06263_"/>
          <p:cNvPicPr/>
          <p:nvPr/>
        </p:nvPicPr>
        <p:blipFill>
          <a:blip r:embed="rId1"/>
          <a:stretch/>
        </p:blipFill>
        <p:spPr>
          <a:xfrm>
            <a:off x="5257800" y="4416480"/>
            <a:ext cx="3581280" cy="240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BD06328_"/>
          <p:cNvPicPr/>
          <p:nvPr/>
        </p:nvPicPr>
        <p:blipFill>
          <a:blip r:embed="rId2"/>
          <a:stretch/>
        </p:blipFill>
        <p:spPr>
          <a:xfrm>
            <a:off x="228600" y="228600"/>
            <a:ext cx="13557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028"/>
          <p:cNvSpPr/>
          <p:nvPr/>
        </p:nvSpPr>
        <p:spPr>
          <a:xfrm>
            <a:off x="304920" y="2209680"/>
            <a:ext cx="8534160" cy="393336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cc0066"/>
                </a:solidFill>
                <a:latin typeface="Arial"/>
              </a:rPr>
              <a:t>2. 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Person</a:t>
            </a:r>
            <a:r>
              <a:rPr b="1" lang="en-US" sz="4800" spc="-1" strike="noStrike" u="sng">
                <a:solidFill>
                  <a:srgbClr val="cc0066"/>
                </a:solidFill>
                <a:uFillTx/>
                <a:latin typeface="Arial"/>
              </a:rPr>
              <a:t>isk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ā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telpa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(46 cm – 1,2m)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- kontaktēšanās ar draugiem vai ģimenes locekļie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,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citiem, labi pazīstamiem cilvēkie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02" name="Text Box 1029"/>
          <p:cNvSpPr/>
          <p:nvPr/>
        </p:nvSpPr>
        <p:spPr>
          <a:xfrm>
            <a:off x="3000240" y="500040"/>
            <a:ext cx="414360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03" name="Picture 1030" descr="BD06858_"/>
          <p:cNvPicPr/>
          <p:nvPr/>
        </p:nvPicPr>
        <p:blipFill>
          <a:blip r:embed="rId1"/>
          <a:stretch/>
        </p:blipFill>
        <p:spPr>
          <a:xfrm>
            <a:off x="228600" y="762120"/>
            <a:ext cx="1828800" cy="10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Object 1024"/>
          <p:cNvGraphicFramePr/>
          <p:nvPr/>
        </p:nvGraphicFramePr>
        <p:xfrm>
          <a:off x="6477120" y="4714920"/>
          <a:ext cx="2133360" cy="14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714920"/>
                    <a:ext cx="213336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11:34Z</dcterms:created>
  <dc:creator>Damian Jankowski</dc:creator>
  <dc:description/>
  <dc:language>en-US</dc:language>
  <cp:lastModifiedBy>Daina</cp:lastModifiedBy>
  <dcterms:modified xsi:type="dcterms:W3CDTF">2012-10-19T17:05:35Z</dcterms:modified>
  <cp:revision>232</cp:revision>
  <dc:subject/>
  <dc:title>KOMUNIKACJA    NIEWERBALNA</dc:title>
</cp:coreProperties>
</file>