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B7B6-1AD6-48FF-B0FE-0D9B5539586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F902-CB0D-4DC1-BB92-1AC190BF13BA}"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 gadā izmaksas uz vienu pacientu gada laikā par visbiežāk izmantojamo pirmās izvēles terapiju ir 3170 LV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enecuēla mēnesī EFV/AZT/3TC  (efivarenz/zidovudine/lamuvidine) – 200 USD; LV – 264 LV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EE96-80F5-4DF3-89E0-B82301CC10A8}"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HIV Rīgā 491 uz 100 tūkstošiem iedzīvotāj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455E-E386-45A7-994C-EB4ECABB5183}"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6.g – 85117 (HIV+ 2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7.g – 79279 (HIV+ 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g – 72444 (HIV+ 3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 – 59331 (HIV+ 27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3501-2307-47FB-B06E-10078B72C6DE}"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9ADA-F934-44FB-BA79-3460BC93636E}"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8595B-D504-44A4-8A1A-D9FEAB862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C887-C1E9-44C9-A423-E9B23D6A6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C1947-AEC9-4EBC-B92A-EA4A3BFF0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65A3D-39A8-4DEE-B8F7-0598C0559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FC26A-566E-4A8A-867F-CE581ADEE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84973-5484-43D2-9B90-3A520D1A4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BBF64-08B6-4DB1-AC0B-E7D29EFD3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6B8E-8B85-4903-8B24-3E622CDC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09000-4839-42B5-879C-4D2D67221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6B450-829A-4963-B290-3E6A435E6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8B64-B663-4028-AA89-22450FFB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682FB-B420-400A-ACC6-03A8A2A88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93B44-C1B4-4C3F-853E-F4A52C114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006B0-4167-4ACB-B48E-9E601A76C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5E89C-46AA-429C-A4D5-AB860AE6F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67738-113F-4BF3-A24B-A52B59E8A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BD3C9-745E-454D-8BFF-EEA2F3BDF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093C-D5D9-4910-9163-60CF5952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3CF5-71FE-4FC5-B0E1-AA27E766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B3E7-660E-40BF-B6FB-1D0583318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1E9B0-CE70-4284-8C29-05AF7200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1EB9-B411-4968-A86B-BE85E244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1657-B07E-482C-9FE8-D688520D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FC79-47EC-4589-8177-C1F233D0E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F0F8-F41D-46CD-9A4F-EF94C9A70D0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8113-FF06-456E-8994-36B9D489CB2A}"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apvienibahiv.lv/" TargetMode="External"/><Relationship Id="rId2" Type="http://schemas.openxmlformats.org/officeDocument/2006/relationships/hyperlink" Target="http://www.itpcglobal.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Verdana"/>
              </a:rPr>
              <a:t>Garām mērķim. HIV infekcijas ārstēšanas pieejamība Latvijā</a:t>
            </a:r>
            <a:endParaRPr b="0" lang="en-US" sz="3600" spc="-1" strike="noStrike">
              <a:solidFill>
                <a:srgbClr val="000000"/>
              </a:solidFill>
              <a:latin typeface="Verdana"/>
            </a:endParaRPr>
          </a:p>
        </p:txBody>
      </p:sp>
      <p:sp>
        <p:nvSpPr>
          <p:cNvPr id="93" name="PlaceHolder 2"/>
          <p:cNvSpPr>
            <a:spLocks noGrp="1"/>
          </p:cNvSpPr>
          <p:nvPr>
            <p:ph type="subTitle"/>
          </p:nvPr>
        </p:nvSpPr>
        <p:spPr>
          <a:xfrm>
            <a:off x="755640" y="4869000"/>
            <a:ext cx="8129520" cy="1752480"/>
          </a:xfrm>
          <a:prstGeom prst="rect">
            <a:avLst/>
          </a:prstGeom>
          <a:noFill/>
          <a:ln w="0">
            <a:noFill/>
          </a:ln>
        </p:spPr>
        <p:txBody>
          <a:bodyPr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Verdana"/>
              </a:rPr>
              <a:t>Mārcis Trapencieris</a:t>
            </a: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Verdana"/>
              </a:rPr>
              <a:t>Prezentēšanai HIV infekcijas, tuberkulozes un seksuālās transmisijas infekciju izplatības ierobežošanas koordinācijas komisijā </a:t>
            </a:r>
            <a:br>
              <a:rPr sz="1600"/>
            </a:br>
            <a:r>
              <a:rPr b="0" i="1" lang="lv-LV" sz="1600" spc="-1" strike="noStrike">
                <a:solidFill>
                  <a:srgbClr val="000000"/>
                </a:solidFill>
                <a:latin typeface="Verdana"/>
              </a:rPr>
              <a:t>2010.gada 19. maijā</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3)</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Nepatentēto medikamentu iegāde netiek veicināta, kā rezultātā ārstēšanas izmaksas Latvijā ir ļoti augstas salīdzinot ar citām vidēju ienākumu valstīm, piemēram, MTT8 pētījumā ar Venecuēlu</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4)</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Daudzi primārās veselības aprūpes sniedzēji izvairās ārstēt HIV/AIDS pacientus dēļ nepilnīgu zināšanu par HIV infekciju vai arī aizspriedumu pret narkotiku lietotājiem vadīti.</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5)</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Integrētu HIV un narkotiku lietotāju ārstēšanas programmu un pakalpojumu trūkums ir viens no pamatiemesliem, kādēļ intravenozo narkotiku lietotājiem ir apgrūtināta pieeja HIV ārstēšanai, galvenokārt Rīgā un citās pilsētās ar augstu HIV/AIDS izplatības līmeni.</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Pētījums pieejams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336699"/>
                </a:solidFill>
                <a:uFillTx/>
                <a:latin typeface="Verdana"/>
                <a:hlinkClick r:id="rId1"/>
              </a:rPr>
              <a:t>http://www.apvienibahiv.lv</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336699"/>
                </a:solidFill>
                <a:uFillTx/>
                <a:latin typeface="Verdana"/>
                <a:hlinkClick r:id="rId2"/>
              </a:rPr>
              <a:t>http://www.itpcglobal.org</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Apvienība HIV.LV uzsākusi advokācijas projektu, kas ilgs līdz 2011.g. martam, lai pētījuma rekomendācijas ieviestu praksē</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ANO 09.2000. Tūkstošgades deklarācija, kuru parakstīja arī Latvij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6.mērķis</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Cīnīties ar HIV/AIDS, malāriju un citām saslimšanām</a:t>
            </a:r>
            <a:endParaRPr b="0" lang="en-US" sz="2600" spc="-1" strike="noStrike">
              <a:solidFill>
                <a:srgbClr val="000000"/>
              </a:solidFill>
              <a:latin typeface="Verdana"/>
            </a:endParaRPr>
          </a:p>
          <a:p>
            <a:pPr lvl="2" marL="1305000" indent="-395280">
              <a:lnSpc>
                <a:spcPct val="9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Līdz 2015.gadam apturēt HIV/AIDS izplatību un nodrošināt tās samazināšanas tendenci</a:t>
            </a:r>
            <a:endParaRPr b="0" lang="en-US" sz="2300" spc="-1" strike="noStrike">
              <a:solidFill>
                <a:srgbClr val="000000"/>
              </a:solidFill>
              <a:latin typeface="Verdana"/>
            </a:endParaRPr>
          </a:p>
          <a:p>
            <a:pPr lvl="2" marL="1305000" indent="-395280">
              <a:lnSpc>
                <a:spcPct val="9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Līdz 2010.gadam nodrošināt vispārēju pieeju HIV/AIDS ārstēšanai visiem, kam tā nepieciešama</a:t>
            </a:r>
            <a:endParaRPr b="0" lang="en-US" sz="23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PC – International Treatment Preparedness Coalition</a:t>
            </a:r>
            <a:r>
              <a:rPr b="0" lang="lv-LV" sz="2600" spc="-1" strike="noStrike">
                <a:solidFill>
                  <a:srgbClr val="000000"/>
                </a:solidFill>
                <a:latin typeface="Verdana"/>
              </a:rPr>
              <a:t> (Starptautiskā koalīcija HIV/AIDS ārstēšanas gatavībai)</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apvieno gandrīz 2500 biedru visā pasaulē</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750 biedru bijušās PSRS reģiona valstīs</a:t>
            </a:r>
            <a:endParaRPr b="0" lang="en-US" sz="22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Missing the Target 8: Access to Treatment for People Living with HIV</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Indija, Kenija, Latvija, Malavi, Svazilenda, Venecuēla</a:t>
            </a:r>
            <a:endParaRPr b="0" lang="en-US" sz="2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9" name="Picture 6" descr=""/>
          <p:cNvPicPr/>
          <p:nvPr/>
        </p:nvPicPr>
        <p:blipFill>
          <a:blip r:embed="rId1"/>
          <a:stretch/>
        </p:blipFill>
        <p:spPr>
          <a:xfrm>
            <a:off x="468360" y="260280"/>
            <a:ext cx="2982960" cy="3861000"/>
          </a:xfrm>
          <a:prstGeom prst="rect">
            <a:avLst/>
          </a:prstGeom>
          <a:ln w="0">
            <a:noFill/>
          </a:ln>
        </p:spPr>
      </p:pic>
      <p:pic>
        <p:nvPicPr>
          <p:cNvPr id="100" name="Picture 7" descr=""/>
          <p:cNvPicPr/>
          <p:nvPr/>
        </p:nvPicPr>
        <p:blipFill>
          <a:blip r:embed="rId2"/>
          <a:stretch/>
        </p:blipFill>
        <p:spPr>
          <a:xfrm>
            <a:off x="1490760" y="1125360"/>
            <a:ext cx="2865240" cy="3708720"/>
          </a:xfrm>
          <a:prstGeom prst="rect">
            <a:avLst/>
          </a:prstGeom>
          <a:ln w="0">
            <a:noFill/>
          </a:ln>
        </p:spPr>
      </p:pic>
      <p:pic>
        <p:nvPicPr>
          <p:cNvPr id="101" name="Picture 8" descr=""/>
          <p:cNvPicPr/>
          <p:nvPr/>
        </p:nvPicPr>
        <p:blipFill>
          <a:blip r:embed="rId3"/>
          <a:stretch/>
        </p:blipFill>
        <p:spPr>
          <a:xfrm>
            <a:off x="3095640" y="1916280"/>
            <a:ext cx="2952720" cy="3821040"/>
          </a:xfrm>
          <a:prstGeom prst="rect">
            <a:avLst/>
          </a:prstGeom>
          <a:ln w="0">
            <a:noFill/>
          </a:ln>
        </p:spPr>
      </p:pic>
      <p:pic>
        <p:nvPicPr>
          <p:cNvPr id="102" name="Content Placeholder 4" descr=""/>
          <p:cNvPicPr/>
          <p:nvPr/>
        </p:nvPicPr>
        <p:blipFill>
          <a:blip r:embed="rId4"/>
          <a:stretch/>
        </p:blipFill>
        <p:spPr>
          <a:xfrm>
            <a:off x="5435640" y="2219400"/>
            <a:ext cx="301788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Viens no ITPC uzdevumiem: nodrošināt universālu pieeju (UA – Universal Access) HIV/AIDS ārstēšanai</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UA:</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Profilaks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Testēšana</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Ārstēšana</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Aprūpe</a:t>
            </a:r>
            <a:endParaRPr b="0" lang="en-US" sz="2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UA Latvijā</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000000"/>
                </a:solidFill>
                <a:uFillTx/>
                <a:latin typeface="Verdana"/>
              </a:rPr>
              <a:t>Latvijā UA mērķi nav precizēti/definēti</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Valsts budžetā profilaksei līdzekļi nav iezīmēti</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Veikto HIV testu skaits dramatiski krities ik gadu kopš 2006.gada (2009.g. – 59331 jeb 70% no 2006.g. veiktajiem)</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HIV ārstēšana netiek nodrošināta visiem, kam tā ir nepieciešama: būtu nepieciešama aptuveni 800, taču pieejama 483 cilvēkiem (dati uz 05.2010)</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HIV aprūpē nav vienota, skaidra vērtību kopuma un principu</a:t>
            </a:r>
            <a:endParaRPr b="0" lang="en-US" sz="2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400" spc="-1" strike="noStrike">
                <a:solidFill>
                  <a:srgbClr val="000000"/>
                </a:solidFill>
                <a:latin typeface="Verdana"/>
              </a:rPr>
              <a:t>HIV ierobežošanas programmas mērķi</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novērst jaunus HIV infekcijas gadījumus mērķa grupās;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īstenot plašus HIV infekcijas profilakses pasākumus;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veicināt veselības aprūpes pakalpojumus HIV inficētām personām un AIDS slimniekiem;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veicināt pierādījumos balstītu HIV infekcijas profilakses pasākumu plānošanu un vadību;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paplašināt HIV infekcijas izplatības ierobežošanas pasākumus, uzlabot to koordināciju</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Latvijā, ekonomiskās krīzes apstākļos, kad tiek samazināts veselības pakalpojumu budžets, pastāv būtiski draudi, ka var tikt samazināti līdzekļi HIV infekcijas ārstēšanai, kas ierobežos to cilvēku skaitu, kam nepieciešama antiretrovirālā terapija, un kas ārstēšanu saņem šobrīd</a:t>
            </a: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2)</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Latvija līdz šim ir atteikusies piemērot HIV/AIDS terapijas vadlīniju kritērijus atbilstoši jaunajām Pasaules Veselības organizācijas rekomendācijām par šīs terapijas uzsākšanu</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WHO (2009). Rapid advice: antiretroviral therapy for HIV infection in adults and adolescents.</a:t>
            </a:r>
            <a:endParaRPr b="0" lang="en-US" sz="2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6T08:35:55Z</dcterms:created>
  <dc:creator>Marcis</dc:creator>
  <dc:description/>
  <dc:language>en-US</dc:language>
  <cp:lastModifiedBy>Marcis</cp:lastModifiedBy>
  <dcterms:modified xsi:type="dcterms:W3CDTF">2010-05-19T09:37:33Z</dcterms:modified>
  <cp:revision>6</cp:revision>
  <dc:subject/>
  <dc:title>Garām mērķim. HIV infekcijas ārstēšanas pieejamība Latvijā</dc:title>
</cp:coreProperties>
</file>