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6A620-2984-4772-9CFF-C1C3E3B7C624}" type="slidenum">
              <a: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HIV Rīgā 491 uz 100 tūkstošiem iedzīvotāj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06.g – 85117 (HIV+ 29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07.g – 79279 (HIV+ 3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08.g – 72444 (HIV+ 35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09.g – 59331 (HIV+ 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10. gadā izmaksas uz vienu pacientu gada laikā par visbiežāk izmantojamo pirmās izvēles terapiju ir 3170 LV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Venecuēla EFV/AZT/3TC – 200 USD; LV – 264 LV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ADC-292E-4CA7-9F91-0F6E9CEA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800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54D-690C-465C-AFC9-9606C5C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4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56C-F410-4D03-916F-4D200425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76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76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2D4-5A89-4DB3-81D3-D5FCF6A1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C8CD-1A3F-4BAB-99B1-01C75747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E408-FC06-4608-8546-85B3099B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1B81-3197-4C31-8A62-41FB7729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EEFE-8D23-4CBE-B7AE-99D49AF2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8E0D-94F1-4D2E-A6C0-D90BFF4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263160"/>
            <a:ext cx="79948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4176-F75D-48F0-8DA4-F6D6767D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3558-A3A1-4F4E-8091-D940F9C1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662-6F1B-4969-8A0E-767E3AC2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34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C44E-6197-4FC7-BDB2-E9162411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5B82-0F06-4EB1-97FF-F7D3A62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800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7FDE-F066-4E51-8A3C-A52A3929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34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D976-8548-4D66-8516-4EE8E880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276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276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ED20-E134-446B-9015-47B500E6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4AF-B9D2-4B92-AB60-66697B6A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C11-3756-4138-B7EA-74E63EE5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60A-D8CE-408A-B2ED-F7C1ED06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263160"/>
            <a:ext cx="79948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370-E8D1-4E4E-83F6-63E94390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419-C26A-4E47-BC96-F70D459D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4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C52-8EC3-4DBD-AA94-72ECA6CA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286-5443-4B8D-9154-0BC227C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74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74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EB412-D4EC-49E7-81DF-C9644E8890DF}" type="slidenum"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86ACE2-2366-4CCB-B70F-E093576AF46E}" type="slidenum">
              <a: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vienibahiv.lv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Verdana"/>
              </a:rPr>
              <a:t>Biedrības “Apvienība HIV.LV” darbība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Verdana"/>
              </a:rPr>
              <a:t>HIV infekcijas ārstēšanas pieejamības Latvijā jom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4869000"/>
            <a:ext cx="812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leksandrs Molokovsk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Verdana"/>
              </a:rPr>
              <a:t>Prezentēšanai HIV infekcijas, tuberkulozes un seksuālās transmisijas infekciju izplatības ierobežošanas koordinācijas komisijā 2010.gada 19. maij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69560"/>
            <a:ext cx="803124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Baltijas valstī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66640" y="1180800"/>
            <a:ext cx="799632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Profilakses programmām riska grupās (ieskaitot kaitējuma mazināšanas programmas) jākļūst par prioritāti, jo HIV profilakse izmaksā daudz lētāk nekā HIV infekcijas ārstēšana un cīņa ar tās sekā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HIV infekcijas ārstēšana jānozīmē vadoties vienīgi pēc medicīniskiem rādītājiem, kas balstīti uz PVO Eiropas reģiona Klīniskajiem protokoliem, jo HIV infekcijas ārstēšana ir arī labākā profilak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Baltijas valstī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66640" y="1655640"/>
            <a:ext cx="7996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Lai maksimāli efektīvi izmantotu esošos resursus, nodrošināt pacientus ar viņiem draudzīgiem integrētiem pakalpojumi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Tā kā valstu iekšēji pieejamie resursi ir mazinājušies, vērsties pie starptautiskām struktūrām un fondiem ar lūgumu finansiāli atbalstīt ar HIV dzīvojošu cilvēku profilakses, ārstēšanas, aprūpes un atbalsta program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Baltijas valstī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Likumos par pašvaldībām pienākumu mazināt HIV infekcijas izplatību to teritorijās iekļaut kā valstisku funkci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260280"/>
            <a:ext cx="79963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Daži pasākumi TB/HIV jom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66640" y="1706400"/>
            <a:ext cx="79963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Nacionālās programmas pieņemšana, lai ierobežotu tuberkulozes izplatību, aktualizējot tuberkulozes profilakses, diagnosticēšanas un terapijas stratēģiju HIV/AIDS pacientu vid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Speciālas nacionālās metodiskās un kontroles nodaļas izveidošana (uz Latvijas Infektoloģijas centra bāzes, ne vairāk kā 3 cilvēki), lai īstenotu prettuberkulozes darbības pārraudzību valst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260280"/>
            <a:ext cx="79963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Daži pasākumi TB/HIV jom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Tuberkulozes profilakses un testēšanas pasākumu integrācija esošajos HIV profilakses un testēšanas mobilajos punk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Brīvprātīgu konsultāciju un HIV noteikšanas testu ieviešana prettuberkulozes dienestu darb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260280"/>
            <a:ext cx="79963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Daži pasākumi TB/HIV jom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66640" y="1661760"/>
            <a:ext cx="79963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Palīdzības sniegšana prettuberkulozes programmām, lai sagatavotu speciālistus HIV infekcijas jomā un izstrādātu rekomendācijas, kā pārzināt ar tuberkulozi slimos HIV inficē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Specializēta tuberkulozes sākotnējā profilakse starp HIV inficētaji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Prettuberkulozes programmu un ar HIV infekcijas programmu darbības koordinēš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446040"/>
            <a:ext cx="79963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Verdana"/>
              </a:rPr>
              <a:t>Nodrošināsim pilnvērtīgas dzīves iespējas arī inficētiem ar HIV!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Biedrības “Apvienība HIV.LV” mājaslapa </a:t>
            </a:r>
            <a:r>
              <a:rPr b="0" lang="lv-LV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apvienibahiv.l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16_05_2010" descr=""/>
          <p:cNvPicPr/>
          <p:nvPr/>
        </p:nvPicPr>
        <p:blipFill>
          <a:blip r:embed=""/>
          <a:stretch/>
        </p:blipFill>
        <p:spPr>
          <a:xfrm>
            <a:off x="3378240" y="2046240"/>
            <a:ext cx="243828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172800"/>
            <a:ext cx="7999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Pētījumu pusgad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- "Garām mērķim": Ārstēšanas pieejamība cilvēkiem, kas dzīvo ar HIV/AIDS Latvij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- Situācijas izpēte tuberkulozes ārstēšanā inficētajiem ar HIV Latvij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- AIDS un psihiskā veselīb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- Alternatīvā atskaite UNG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CITI PROJEKTI AR SITUĀCIJAS  IZPĒTES  ELEMENTI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"Zināšanas kā  HIV infekcijas ierobežošanas pamats"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(ar ieslodzīto testēšanu uz HIV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"Sadarbība un veselība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(ar ieslodzīto testešanu uz HIV/HCV/T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Valdībai HIV ārstēšanas jom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Jānodrošina atbilstoši līdzekļi visām prioritātēm un aktivitātēm, kas ir uzskaitītas Cilvēka imūndeficīta vīrusa (HIV) infekcijas izplatības ierobežošanas programmā 2009.–2013. gad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Nepatentēto antiretrovirālo medikamentu iegādei un izmantošanai jākļūst par prioritāti, lai ievērojami samazinātu ārstēšanas izmaksas uz vienu pacien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Rekomendācijas par ārstēšanas pamatprincipi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Veselības Ministrijai vajadzētu pārraudzīt procesu, kurā nacionālās HIV infekcijas ārstēšanas vadlīnijas tiek pārskatītas, lai tās atbilstu vislabākajiem internacionālajiem standarti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Veselības Ekonomikas centram vajadzētu veikt pētījumu par pašreizējo ārstēšanas režīmu efektivitā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400" spc="-1" strike="noStrike">
                <a:solidFill>
                  <a:srgbClr val="000000"/>
                </a:solidFill>
                <a:latin typeface="Verdana"/>
              </a:rPr>
              <a:t>Veselības Ministrija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Verdana"/>
              </a:rPr>
              <a:t>Jāuzņemas vadība, lai nodrošinātu, ka visas ieinteresētās puses vienotos par vienotu, skaidru vērtību kopumu, prioritātēm un principiem HIV/AIDS jom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Verdana"/>
              </a:rPr>
              <a:t>Jāpilda Ministru prezidenta Rīkojums katru gadu izskatīt nevalstisko HIV/AIDS organizāciju līdzdalības iespējas ar atbilstošu finansējumu līdzdarbības līgumu ietva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Veselības Ministrij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66640" y="1703160"/>
            <a:ext cx="799632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Jāizskata iespējas piešķirt līdzekļus integrētai narkotiku ārstēšanas attīstīšanai un kaitējuma mazināšanai, tā palīdzot uzlabot intravenozo narkotiku lietotāju pieeju antiretrovīrusu terapij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Sadarbībā ar NVO ir jāizstrādā stratēģijas, kas ļautu sasniegt grūti pieejamas iedzīvotāju grupas - intravenozo narkotiku lietotājus un komercseksa pakalpojumu sniedzēj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Veselības Ministrij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Izveidot vienotu apmācību sistēmu visiem veselības aprūpes specialistiem, kas ļautu uzlabot HIV infekcijas ārstēšanu valst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Saeima 17.05.2010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Kontrolēs valdībai doto uzdevumu strādāt pie vienotā Baltijas valstu iepirkuma (vakcīnas, HIV/AIDS zāles, onkoloģijas zāles, TB zāles; iespējams vienots kompensējamo zāļu saraks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Par profilaksi - klusum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8:35:55Z</dcterms:created>
  <dc:creator>Marcis</dc:creator>
  <dc:description/>
  <dc:language>en-US</dc:language>
  <cp:lastModifiedBy>Marcis</cp:lastModifiedBy>
  <dcterms:modified xsi:type="dcterms:W3CDTF">2010-05-16T10:32:37Z</dcterms:modified>
  <cp:revision>4</cp:revision>
  <dc:subject/>
  <dc:title>Garām mērķim. HIV infekcijas ārstēšanas pieejamība Latvijā</dc:title>
</cp:coreProperties>
</file>